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414-91E6-4543-A553-E6734C47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4D4-C93E-41E4-B3CD-58F332B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D22-4262-4482-A84A-ED912660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6D2-9B22-4B47-809C-3E83A044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106-E792-4A15-ACBE-5D8DBD7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954-1C19-4DEA-A4B5-CA4DF12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C0D-1339-4DCF-83BB-E1B3DCB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F1C-1164-4000-B65C-BD37F90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E69-A59A-42F3-ABC2-D3CD6DD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29-0603-4F6C-9CF0-CA3EB11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172-2F9D-4C64-A839-BD74B8B6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BEA-032D-4A39-82CD-B28F99C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D96F-26A6-471D-8BB3-EB7FEE95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K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net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K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NJSZT</dc:creator>
  <dc:description/>
  <dc:language>en-US</dc:language>
  <cp:lastModifiedBy/>
  <dcterms:modified xsi:type="dcterms:W3CDTF">2008-11-18T16:44:28Z</dcterms:modified>
  <cp:revision>8</cp:revision>
  <dc:subject>ECDL</dc:subject>
  <dc:title>Prezentáció forrás, 1.feladat</dc:title>
</cp:coreProperties>
</file>