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15D-11F4-4FBB-895A-44BADA2E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CC4-A6D2-48BB-A66C-373DE792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291-63EF-4BEA-BCD9-62D19EA4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17B-BC4C-4324-8CA9-87662D7D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D5F-240A-4D5F-ACCD-8D51B319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471-FDC0-4D1C-9B8E-E8105BBA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66D-C350-4D29-9615-5219EBEE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E1D-ED0B-4CDF-88DC-0E7A29F2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96B-ED07-445D-BCDD-B68DD60B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2C1-AF2B-4D53-BCAD-824E6F2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D63-23C0-4AA9-AD0F-8146F791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070-7B29-40DC-B606-413EC2C7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277480" cy="611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A6CC-849C-4C42-B73D-27610100974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z XXX-Komplex szolgáltatóház tevékenységi kö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Ado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Befektetsi 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Egyéni válalkozók, társaságok könyvi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Jogi ügyinté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Ingatlanközvet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Nyomdai szolg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Szöveg- és kiadványszekr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Rendezvények, konferenciák lebonyoli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Reklám- és marketingtevéken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Utazásiir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Speciális egyéni szogl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 Szolgáltatóház bevétel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-ben a főbb tevékenységekbő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zolgáltatóház partne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21:36Z</dcterms:created>
  <dc:creator>NJSZT</dc:creator>
  <dc:description/>
  <dc:language>en-US</dc:language>
  <cp:lastModifiedBy>.</cp:lastModifiedBy>
  <dcterms:modified xsi:type="dcterms:W3CDTF">2003-05-24T22:05:54Z</dcterms:modified>
  <cp:revision>10</cp:revision>
  <dc:subject>ECDL</dc:subject>
  <dc:title>Prezentáció forrás, 10.feladat</dc:title>
</cp:coreProperties>
</file>