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5BE8-C7F7-4006-9D74-DBC4BD7B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03E3-091E-49F6-99E8-A5BD9CCD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D722-6647-4ACF-9FA8-86726A147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3C4A-8944-42BD-A65A-5A966574C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CC2D-A849-4924-9395-949B9A49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A20A-F2E5-47F0-8398-42CFAE2D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D893-EB74-4F9A-BD8A-EF32B010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73CF-9274-4C80-9904-E9D85D16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34B1-7663-4A62-8A15-EA114393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FC18-A88D-403C-9023-537ED993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E79C-CAFD-4AD8-9F8F-0BCA0873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737A-50F9-4EE7-AAF5-2E486F63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8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EDB3-B63E-4B15-9B05-3BA08FFF7E44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71680" y="571680"/>
            <a:ext cx="8001000" cy="57150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Times New Roman"/>
              </a:rPr>
              <a:t>1995-ben alakultunk meg mint adótanácsadó iroda.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Times New Roman"/>
              </a:rPr>
              <a:t>A tevékenységi körünk  száma 1997-re elérte az 5-öt.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Times New Roman"/>
              </a:rPr>
              <a:t>1998-ban új épületbe költöztünk.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Times New Roman"/>
              </a:rPr>
              <a:t>Az új sokszorosító üzembe helyezésével munkatársaink száma 30%-kal nőtt.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Times New Roman"/>
              </a:rPr>
              <a:t>1998 végére új számítógépeket vásároltunk.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Times New Roman"/>
              </a:rPr>
              <a:t>1999-ben nyitottuk meg utazási irodánkat.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A Ház fejlődése öt év alat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/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6T09:50:22Z</dcterms:created>
  <dc:creator>NJSZT</dc:creator>
  <dc:description/>
  <dc:language>en-US</dc:language>
  <cp:lastModifiedBy>.</cp:lastModifiedBy>
  <dcterms:modified xsi:type="dcterms:W3CDTF">2003-05-24T22:14:03Z</dcterms:modified>
  <cp:revision>5</cp:revision>
  <dc:subject>ECDL</dc:subject>
  <dc:title>Prezentáció forrás, 11.feladat</dc:title>
</cp:coreProperties>
</file>