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D97B-E529-4349-8460-ED44BE439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DC63-06B4-4F45-8768-9AE836094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7F62-F3D2-4174-9E7F-EC11D2EE3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5213-2610-4E7D-8498-52D5BAD89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1FD2-1D96-4A47-BA01-75960E015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4204-224A-4D7E-AAE7-66DD39E4A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B035-3A66-4E76-8AEB-85CEBDF34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73F3-1D32-4D56-A696-DFF367539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B463-1456-498C-A8CA-BDB494DCF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E146-8A69-448B-B793-3E6D6E34B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D660-1ACC-42B6-9BDB-789DEE718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CC22-2013-411C-A8AD-67AF71761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0808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808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0808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0808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808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0808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08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0808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0808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5E735-9332-4461-8940-C46CB6125319}" type="slidenum"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71680" y="571680"/>
            <a:ext cx="8001000" cy="571500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4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808080"/>
                </a:solidFill>
                <a:latin typeface="Times New Roman"/>
              </a:rPr>
              <a:t>1995-ben alakultunk meg mint adótanácsadó iroda.</a:t>
            </a:r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808080"/>
                </a:solidFill>
                <a:latin typeface="Times New Roman"/>
              </a:rPr>
              <a:t>A tevékenységi körünk  száma 1997-re elérte az 5-öt.</a:t>
            </a:r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808080"/>
                </a:solidFill>
                <a:latin typeface="Times New Roman"/>
              </a:rPr>
              <a:t>1998-ban új épületbe költöztünk.</a:t>
            </a:r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808080"/>
                </a:solidFill>
                <a:latin typeface="Times New Roman"/>
              </a:rPr>
              <a:t>Az új sokszorosító üzembe helyezésével munkatársaink száma 30%-kal nőtt.</a:t>
            </a:r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808080"/>
                </a:solidFill>
                <a:latin typeface="Times New Roman"/>
              </a:rPr>
              <a:t>1998 végére új számítógépeket vásároltunk.</a:t>
            </a:r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808080"/>
                </a:solidFill>
                <a:latin typeface="Times New Roman"/>
              </a:rPr>
              <a:t>1999-ben nyitottuk meg utazási irodánkat.</a:t>
            </a:r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Times New Roman"/>
              </a:rPr>
              <a:t>A Ház fejlődése öt év alatt</a:t>
            </a: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/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6T09:50:22Z</dcterms:created>
  <dc:creator>NJSZT</dc:creator>
  <dc:description/>
  <dc:language>en-US</dc:language>
  <cp:lastModifiedBy>.</cp:lastModifiedBy>
  <dcterms:modified xsi:type="dcterms:W3CDTF">2003-05-24T22:23:48Z</dcterms:modified>
  <cp:revision>6</cp:revision>
  <dc:subject>ECDL</dc:subject>
  <dc:title>Prezentáció forrás, 12.feladat</dc:title>
</cp:coreProperties>
</file>