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0856-9268-41BC-AE97-1F7EEB7D0BA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sávok koncentrikusan elhelyezkedő körök. A lemez kapacitása függ a sávok és a szektorok számától. Egy szektor mérete 512 by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8D17-DEA6-4466-B5EF-21A427CBF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2FFF-C933-4D44-B6D4-8104A0D3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9FA4-2729-4B82-87F2-D8452FBC9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B4C5-8E42-4F59-8A20-936612275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B734-EE77-437A-B333-FF4E9513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B060-9919-4516-A82A-D028EB81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C0D7-5E55-49AE-96DB-89F84AC4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E357-0518-4F23-AEE5-3A044C6E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DA67-CA0E-4DA2-965E-1F972AC7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B128-37F8-45DD-AED4-3A82A771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CCDA-64CA-4F9F-B94A-AD810B4F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6D46-6C90-44DB-8061-739142C8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9040" y="343080"/>
            <a:ext cx="8305920" cy="6172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FE57-F41E-4212-BFC2-3B17E5D05A7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400480" y="2639880"/>
            <a:ext cx="3527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zámítógép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ismerete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kezdőkne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81080" y="1447920"/>
            <a:ext cx="4318200" cy="4317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1808280"/>
            <a:ext cx="3598920" cy="3598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2166840"/>
            <a:ext cx="2879640" cy="288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60720" y="2527200"/>
            <a:ext cx="2158920" cy="2159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1080" y="2887560"/>
            <a:ext cx="1440000" cy="144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05720" y="190512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áv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714640" y="22096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0880" y="53352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 merevlemez szerkez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191120" y="5486400"/>
            <a:ext cx="30456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44000" y="5486400"/>
            <a:ext cx="167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avult formátumo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5800" y="1981080"/>
          <a:ext cx="7772400" cy="4114080"/>
        </p:xfrm>
        <a:graphic>
          <a:graphicData uri="http://schemas.openxmlformats.org/drawingml/2006/table">
            <a:tbl>
              <a:tblPr/>
              <a:tblGrid>
                <a:gridCol w="2209680"/>
                <a:gridCol w="2819520"/>
                <a:gridCol w="2743200"/>
              </a:tblGrid>
              <a:tr h="13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VD + 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VD + R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Írási sebessé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3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pacit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7 G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VD lemeztípuso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kompaktlemez (CD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ípus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D-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D-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D-R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1:38:16Z</dcterms:created>
  <dc:creator>NJSZT</dc:creator>
  <dc:description/>
  <dc:language>en-US</dc:language>
  <cp:lastModifiedBy>Rokobauer József</cp:lastModifiedBy>
  <dcterms:modified xsi:type="dcterms:W3CDTF">2008-05-15T07:17:35Z</dcterms:modified>
  <cp:revision>13</cp:revision>
  <dc:subject>ECDL</dc:subject>
  <dc:title>Prezentáció forrás, 13.feladat</dc:title>
</cp:coreProperties>
</file>