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2A4F-2242-46B6-B257-663EAF101CE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sávok koncentrikusan elhelyezkedő körök. A lemez kapacitása függ a sávok és a szektorok számától. Egy szektor mérete 512 b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B32-4415-4FF0-BC05-DA0BCB4F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C89-3B26-4BDF-8BFB-AF4950E7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313-3220-4898-ABD0-71F47BCD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EBF-5371-472E-9069-E64FF60D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C8C-228D-4E49-9A5E-14DF94DF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22A-C9DE-45F6-AA10-BD076E81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FBC-710D-44AE-8BCA-2C3D17D4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24E-F0BC-49C2-A188-DB1EAFFA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2BA-FD41-435D-A381-D3E4BF83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313-AE89-47A8-8F82-9D3F5D1C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B7C-FEA3-4BAE-ADFD-B795B2ED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64B-1B01-4F4E-BBD1-52EBE402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43080"/>
            <a:ext cx="8305920" cy="6172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7AA9-A1A8-444D-92BA-6F0A70916D33}" type="slidenum">
              <a:rPr b="0" lang="hu-HU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00480" y="2639880"/>
            <a:ext cx="3527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zámítógé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ismer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kezdőkne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81080" y="1447920"/>
            <a:ext cx="4318200" cy="4317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1808280"/>
            <a:ext cx="3598920" cy="359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166840"/>
            <a:ext cx="2879640" cy="288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60720" y="2527200"/>
            <a:ext cx="2158920" cy="215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1080" y="2887560"/>
            <a:ext cx="1440000" cy="14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19051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áv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14640" y="2209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880" y="5335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merevlemez szerkez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91120" y="5486400"/>
            <a:ext cx="30456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4000" y="5486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avult formátum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114080"/>
        </p:xfrm>
        <a:graphic>
          <a:graphicData uri="http://schemas.openxmlformats.org/drawingml/2006/table">
            <a:tbl>
              <a:tblPr/>
              <a:tblGrid>
                <a:gridCol w="2209680"/>
                <a:gridCol w="2819520"/>
                <a:gridCol w="274320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rási sebessé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paci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lemeztípus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kompaktlemez (C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ípu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1:38:16Z</dcterms:created>
  <dc:creator>NJSZT</dc:creator>
  <dc:description/>
  <dc:language>en-US</dc:language>
  <cp:lastModifiedBy>Rokobauer József</cp:lastModifiedBy>
  <dcterms:modified xsi:type="dcterms:W3CDTF">2008-05-15T07:27:23Z</dcterms:modified>
  <cp:revision>14</cp:revision>
  <dc:subject>ECDL</dc:subject>
  <dc:title>Prezentáció forrás, 14.feladat</dc:title>
</cp:coreProperties>
</file>