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D20-9E31-4284-A860-F90DA6121FF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908-A6D5-4B6B-8F6A-C1CDB923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F9B-D19A-4556-908B-88D2864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604-4411-4F00-BCB1-BC149632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A00-38A7-4CE6-B8BA-032F39E7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F98-B836-492E-842E-BC74FCB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E68-2A95-41CD-8CFC-000188AB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C64-BC01-49B0-BE9F-644CB730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370-53B0-44DC-9391-6138023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F73-DDA0-4E6C-AFB0-0AFC46D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5A7-DD33-4CFC-A69A-59EBBB7C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F3A-AC49-432B-B72F-7204D01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3B9-8425-47D6-92FF-56A0675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BB09-701A-4867-B60F-85BCC9A592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388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149720"/>
            <a:ext cx="388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8:09:31Z</dcterms:modified>
  <cp:revision>16</cp:revision>
  <dc:subject>ECDL</dc:subject>
  <dc:title>Prezentáció forrás, 15.feladat</dc:title>
</cp:coreProperties>
</file>