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8CB7-4F93-4B92-BBB0-BCF7EA67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84E3-ED07-49D5-8B6E-23ECA0C6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6C5A-4BBD-4D52-8B75-B822B9984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CB01-84D8-4AEC-90BD-44998FFFD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94E7-0CDA-4822-AD73-F1BAB8C5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5CF4-875A-422F-9580-967DA128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E460-ABD4-4A09-9BCD-474E678E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1C9D-34EC-4B50-A517-ECDAB63D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6822-6981-44F8-83C6-AC34E72C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A5DE-A14E-4769-ADA1-A9E1CEC0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C4C3-4416-4EDE-AA18-CF3ACF72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34F6-62DF-480C-8B61-94C554C7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6AE4-8473-4495-9779-71578ADD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9D28-B3A2-4BAC-A717-8A24F72B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53A2-3BFE-473E-B8AE-9C647142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4971-CB3A-47BF-8ADF-33F6B2FE2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2F66-AA15-421A-B1A7-D0D90879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B213-82CD-40BA-AF36-D6DF2225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F559-3817-4D73-8066-ACD916A1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4180-6BCD-4BBD-A3A4-32325175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585E-DB91-47DE-8125-6A4A471C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382C-AC09-4651-A33D-FC87A682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57D5-B816-4982-ADFE-DF348D76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1E5D-9F59-4A49-AC7B-B3D1A5C9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6C8B-1140-4F01-BE23-5FDE570DFBF4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A706-5242-4716-949F-B3BF544ED1D7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518840"/>
            <a:ext cx="73803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A DVD lemez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VD típuso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13:52Z</dcterms:created>
  <dc:creator>NJSZT</dc:creator>
  <dc:description/>
  <dc:language>en-US</dc:language>
  <cp:lastModifiedBy>Rokobauer József</cp:lastModifiedBy>
  <dcterms:modified xsi:type="dcterms:W3CDTF">2008-05-15T08:12:25Z</dcterms:modified>
  <cp:revision>4</cp:revision>
  <dc:subject>ECDL</dc:subject>
  <dc:title>Prezentáció forrás, 15b.feladat</dc:title>
</cp:coreProperties>
</file>