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DE46-EA16-4DAA-B11C-46D121F73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A8E7-53BD-4633-9C4F-F96F5A35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0C68-3CBD-42D1-910C-2FA48DA88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3962-2516-4642-8DD9-9EBF77321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45A6-78AF-41E8-86E6-45A53BDE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E4C0-972B-4040-82B8-9D414063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0C58-6678-48ED-BB11-DC556E07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F93A-8F8C-43BF-99D9-FBA41E08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93F3-D215-467E-8CDF-127DF618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7A54-BB1E-456C-8A25-C769A733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4F96-87B8-45A4-A64A-E7A27013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9E40-AD8A-4C35-BD7B-F2D36F1F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1DB0-E9E6-462E-A7D8-2AFD4EA7BB7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ECF9-2EC9-4AD6-A2E6-E7B30958C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XXX Virágüz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78168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3915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477120" y="64008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XXX Virágüz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virág3" descr=""/>
          <p:cNvPicPr/>
          <p:nvPr/>
        </p:nvPicPr>
        <p:blipFill>
          <a:blip r:embed="rId2"/>
          <a:stretch/>
        </p:blipFill>
        <p:spPr>
          <a:xfrm>
            <a:off x="3112920" y="0"/>
            <a:ext cx="379440" cy="533520"/>
          </a:xfrm>
          <a:prstGeom prst="rect">
            <a:avLst/>
          </a:prstGeom>
          <a:ln w="0">
            <a:noFill/>
          </a:ln>
        </p:spPr>
      </p:pic>
      <p:pic>
        <p:nvPicPr>
          <p:cNvPr id="12" name="virág3" descr=""/>
          <p:cNvPicPr/>
          <p:nvPr/>
        </p:nvPicPr>
        <p:blipFill>
          <a:blip r:embed="rId3"/>
          <a:stretch/>
        </p:blipFill>
        <p:spPr>
          <a:xfrm>
            <a:off x="3746520" y="0"/>
            <a:ext cx="379440" cy="533520"/>
          </a:xfrm>
          <a:prstGeom prst="rect">
            <a:avLst/>
          </a:prstGeom>
          <a:ln w="0">
            <a:noFill/>
          </a:ln>
        </p:spPr>
      </p:pic>
      <p:pic>
        <p:nvPicPr>
          <p:cNvPr id="13" name="virág3" descr=""/>
          <p:cNvPicPr/>
          <p:nvPr/>
        </p:nvPicPr>
        <p:blipFill>
          <a:blip r:embed="rId4"/>
          <a:stretch/>
        </p:blipFill>
        <p:spPr>
          <a:xfrm>
            <a:off x="4381560" y="0"/>
            <a:ext cx="379440" cy="533520"/>
          </a:xfrm>
          <a:prstGeom prst="rect">
            <a:avLst/>
          </a:prstGeom>
          <a:ln w="0">
            <a:noFill/>
          </a:ln>
        </p:spPr>
      </p:pic>
      <p:pic>
        <p:nvPicPr>
          <p:cNvPr id="14" name="virág3" descr=""/>
          <p:cNvPicPr/>
          <p:nvPr/>
        </p:nvPicPr>
        <p:blipFill>
          <a:blip r:embed="rId5"/>
          <a:stretch/>
        </p:blipFill>
        <p:spPr>
          <a:xfrm>
            <a:off x="5016600" y="0"/>
            <a:ext cx="379440" cy="533520"/>
          </a:xfrm>
          <a:prstGeom prst="rect">
            <a:avLst/>
          </a:prstGeom>
          <a:ln w="0">
            <a:noFill/>
          </a:ln>
        </p:spPr>
      </p:pic>
      <p:pic>
        <p:nvPicPr>
          <p:cNvPr id="15" name="virág3" descr=""/>
          <p:cNvPicPr/>
          <p:nvPr/>
        </p:nvPicPr>
        <p:blipFill>
          <a:blip r:embed="rId6"/>
          <a:stretch/>
        </p:blipFill>
        <p:spPr>
          <a:xfrm>
            <a:off x="5626080" y="0"/>
            <a:ext cx="37944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1185840"/>
            <a:ext cx="4343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600" spc="-1" strike="noStrike">
                <a:solidFill>
                  <a:srgbClr val="000000"/>
                </a:solidFill>
                <a:latin typeface="Times New Roman"/>
              </a:rPr>
              <a:t>Vágott és cserepes virágok, trópusi növények,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u-HU" sz="3600" spc="-1" strike="noStrike">
                <a:solidFill>
                  <a:srgbClr val="000000"/>
                </a:solidFill>
                <a:latin typeface="Times New Roman"/>
              </a:rPr>
              <a:t>virágkülönlegességek. Kaktuszok, pozsgások,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u-HU" sz="3600" spc="-1" strike="noStrike">
                <a:solidFill>
                  <a:srgbClr val="000000"/>
                </a:solidFill>
                <a:latin typeface="Times New Roman"/>
              </a:rPr>
              <a:t>orchideák a legnagyobb választékb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virág2" descr=""/>
          <p:cNvPicPr/>
          <p:nvPr/>
        </p:nvPicPr>
        <p:blipFill>
          <a:blip r:embed="rId1"/>
          <a:stretch/>
        </p:blipFill>
        <p:spPr>
          <a:xfrm>
            <a:off x="3657600" y="2624040"/>
            <a:ext cx="1828800" cy="1608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7200" y="1185840"/>
            <a:ext cx="4114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Vállaljuk esküvői, ballagási csokrok, koszorúk elkészítését, rendezvényekhez virágdekoráció kivitelezését, növények kölcsönzésé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600" y="685800"/>
            <a:ext cx="7620120" cy="3958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r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imes New Roman"/>
              </a:rPr>
              <a:t>Címünk: 1261 Budapest, Kamilla u. 89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r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imes New Roman"/>
              </a:rPr>
              <a:t>Telefon: 987-765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r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imes New Roman"/>
              </a:rPr>
              <a:t>Nyitva tartá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r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imes New Roman"/>
              </a:rPr>
              <a:t>H-P: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600" spc="-1" strike="noStrike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hu-HU" sz="3600" spc="-1" strike="noStrike">
                <a:solidFill>
                  <a:srgbClr val="ffff00"/>
                </a:solidFill>
                <a:latin typeface="Times New Roman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r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imes New Roman"/>
              </a:rPr>
              <a:t>SZ: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600" spc="-1" strike="noStrike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hu-HU" sz="3600" spc="-1" strike="noStrike">
                <a:solidFill>
                  <a:srgbClr val="ffff00"/>
                </a:solidFill>
                <a:latin typeface="Times New Roman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r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imes New Roman"/>
              </a:rPr>
              <a:t>V: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600" spc="-1" strike="noStrike">
                <a:solidFill>
                  <a:srgbClr val="ffff00"/>
                </a:solidFill>
                <a:latin typeface="Times New Roman"/>
              </a:rPr>
              <a:t>ZÁRVA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07:01:18Z</dcterms:created>
  <dc:creator>NJSZT</dc:creator>
  <dc:description/>
  <dc:language>en-US</dc:language>
  <cp:lastModifiedBy>.</cp:lastModifiedBy>
  <dcterms:modified xsi:type="dcterms:W3CDTF">2003-06-03T18:31:26Z</dcterms:modified>
  <cp:revision>16</cp:revision>
  <dc:subject>ECDL</dc:subject>
  <dc:title>Prezentáció forrás, 16.feladat</dc:title>
</cp:coreProperties>
</file>