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334500" cy="7048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EAD-4A5B-442E-9C5F-2846B743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793404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9840" y="4245480"/>
            <a:ext cx="793404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FC5-7667-4484-A92F-D18B990F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9840" y="424548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65680" y="424548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9D8-D0ED-4626-9910-4BC55043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82560" y="203652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65280" y="203652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9840" y="424548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82560" y="424548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65280" y="424548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52A-2F4D-4B10-BC21-F17ED06C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9840" y="2036520"/>
            <a:ext cx="793404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52F-4C86-44C2-B5AE-03C9769E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793404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464-508F-4666-9AF7-C55285BA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225-D0AE-42CD-9CEA-D9A2AB1C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3A3-D82D-4F62-858E-F18D9808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9840" y="626760"/>
            <a:ext cx="7934040" cy="54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FF1-FCB2-46B7-8ED2-61FDD0F8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9840" y="424548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D4A-79F5-404D-AC94-E897227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5680" y="424548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34B-6A9B-43D0-BF06-F934AAF6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9840" y="4245480"/>
            <a:ext cx="793404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02A-3082-4B4E-986D-9F708525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9840" y="2036520"/>
            <a:ext cx="793404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 fontScale="99000"/>
          </a:bodyPr>
          <a:p>
            <a:pPr marL="347400" indent="-3474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8120" indent="-2307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1800" indent="-230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5480" indent="-2325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85480" indent="-2325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85480" indent="-2325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920" y="6421320"/>
            <a:ext cx="1944720" cy="4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20DF110-2CCD-4770-86BF-F39E26667C5B}" type="datetime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99840" y="6421320"/>
            <a:ext cx="2955960" cy="4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9520" y="6421320"/>
            <a:ext cx="1944360" cy="4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8CBE4E1-0503-443E-BF97-B01215FD7C5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XXX Virágüz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23160" y="6578640"/>
            <a:ext cx="2411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545240" y="6421320"/>
            <a:ext cx="1789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611760" y="6578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XX Virágüz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547560"/>
            <a:ext cx="933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265800"/>
            <a:ext cx="933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virág3" descr=""/>
          <p:cNvPicPr/>
          <p:nvPr/>
        </p:nvPicPr>
        <p:blipFill>
          <a:blip r:embed="rId2"/>
          <a:stretch/>
        </p:blipFill>
        <p:spPr>
          <a:xfrm>
            <a:off x="3178080" y="0"/>
            <a:ext cx="387360" cy="547560"/>
          </a:xfrm>
          <a:prstGeom prst="rect">
            <a:avLst/>
          </a:prstGeom>
          <a:ln w="0">
            <a:noFill/>
          </a:ln>
        </p:spPr>
      </p:pic>
      <p:pic>
        <p:nvPicPr>
          <p:cNvPr id="12" name="virág3" descr=""/>
          <p:cNvPicPr/>
          <p:nvPr/>
        </p:nvPicPr>
        <p:blipFill>
          <a:blip r:embed="rId3"/>
          <a:stretch/>
        </p:blipFill>
        <p:spPr>
          <a:xfrm>
            <a:off x="3824280" y="0"/>
            <a:ext cx="387360" cy="547560"/>
          </a:xfrm>
          <a:prstGeom prst="rect">
            <a:avLst/>
          </a:prstGeom>
          <a:ln w="0">
            <a:noFill/>
          </a:ln>
        </p:spPr>
      </p:pic>
      <p:pic>
        <p:nvPicPr>
          <p:cNvPr id="13" name="virág3" descr=""/>
          <p:cNvPicPr/>
          <p:nvPr/>
        </p:nvPicPr>
        <p:blipFill>
          <a:blip r:embed="rId4"/>
          <a:stretch/>
        </p:blipFill>
        <p:spPr>
          <a:xfrm>
            <a:off x="4473720" y="0"/>
            <a:ext cx="385560" cy="547560"/>
          </a:xfrm>
          <a:prstGeom prst="rect">
            <a:avLst/>
          </a:prstGeom>
          <a:ln w="0">
            <a:noFill/>
          </a:ln>
        </p:spPr>
      </p:pic>
      <p:pic>
        <p:nvPicPr>
          <p:cNvPr id="14" name="virág3" descr=""/>
          <p:cNvPicPr/>
          <p:nvPr/>
        </p:nvPicPr>
        <p:blipFill>
          <a:blip r:embed="rId5"/>
          <a:stretch/>
        </p:blipFill>
        <p:spPr>
          <a:xfrm>
            <a:off x="5121360" y="0"/>
            <a:ext cx="387360" cy="547560"/>
          </a:xfrm>
          <a:prstGeom prst="rect">
            <a:avLst/>
          </a:prstGeom>
          <a:ln w="0">
            <a:noFill/>
          </a:ln>
        </p:spPr>
      </p:pic>
      <p:pic>
        <p:nvPicPr>
          <p:cNvPr id="15" name="virág3" descr=""/>
          <p:cNvPicPr/>
          <p:nvPr/>
        </p:nvPicPr>
        <p:blipFill>
          <a:blip r:embed="rId6"/>
          <a:stretch/>
        </p:blipFill>
        <p:spPr>
          <a:xfrm>
            <a:off x="5743440" y="0"/>
            <a:ext cx="387360" cy="5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3280" y="1219320"/>
            <a:ext cx="44341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hu-HU" sz="3700" spc="-1" strike="noStrike">
                <a:solidFill>
                  <a:srgbClr val="000000"/>
                </a:solidFill>
                <a:latin typeface="Times New Roman"/>
              </a:rPr>
              <a:t>Vágott és cserepes virágok, trópusi növények,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3700" spc="-1" strike="noStrike">
                <a:solidFill>
                  <a:srgbClr val="000000"/>
                </a:solidFill>
                <a:latin typeface="Times New Roman"/>
              </a:rPr>
              <a:t>virágkülönlegességek. Kaktuszok, pozsgások,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3700" spc="-1" strike="noStrike">
                <a:solidFill>
                  <a:srgbClr val="000000"/>
                </a:solidFill>
                <a:latin typeface="Times New Roman"/>
              </a:rPr>
              <a:t>orchideák a legnagyobb választékban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virág2" descr=""/>
          <p:cNvPicPr/>
          <p:nvPr/>
        </p:nvPicPr>
        <p:blipFill>
          <a:blip r:embed="rId1"/>
          <a:stretch/>
        </p:blipFill>
        <p:spPr>
          <a:xfrm>
            <a:off x="6222960" y="2697120"/>
            <a:ext cx="1866960" cy="1652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6560" y="1219320"/>
            <a:ext cx="420084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r">
              <a:spcBef>
                <a:spcPts val="2313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3700" spc="-1" strike="noStrike">
                <a:solidFill>
                  <a:srgbClr val="ffff00"/>
                </a:solidFill>
                <a:latin typeface="Times New Roman"/>
              </a:rPr>
              <a:t>Vállaljuk esküvői, ballagási csokrok, koszorúk elkészítését, rendezvényekhez virágdekoráció kivitelezését, növények kölcsönzésé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3280" y="704880"/>
            <a:ext cx="7778880" cy="4063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Címünk: 1261 Budapest, Kamilla u. 89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Telefon: 987-765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Nyitva tartás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H-P: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19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SZ: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V: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ZÁRVA!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7:01:18Z</dcterms:created>
  <dc:creator>NJSZT</dc:creator>
  <dc:description/>
  <dc:language>en-US</dc:language>
  <cp:lastModifiedBy>.</cp:lastModifiedBy>
  <dcterms:modified xsi:type="dcterms:W3CDTF">2003-05-25T07:49:32Z</dcterms:modified>
  <cp:revision>18</cp:revision>
  <dc:subject>ECDL</dc:subject>
  <dc:title>Prezentáció forrás, 17.feladat</dc:title>
</cp:coreProperties>
</file>