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908-F963-494F-BF09-B374A06C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4D6-BD81-4910-BEE5-9AA00DB0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15A-AD1D-46FD-91DE-CDBA05B8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FEE-03B9-4A7E-86D1-DB2043A1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3F1-94D3-4F89-AAD8-77D2D7F7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2D6-7DD0-45EB-99F0-4DA4B9E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34A-9066-4803-9554-54F7DCFB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5EF-A7E2-4C95-8649-6D1BB9E1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A01-7953-41F7-BC8F-3DE4E56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D5E-85F6-4554-A746-CAC1DF9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1B1-DDEC-493F-AB2A-C5BBCA0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B31-F449-4A6C-A076-9B07E61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B9AA-B5E4-4109-BC40-F595AC1EFBFF}" type="datetime">
              <a:rPr b="0" lang="en-US" sz="1400" spc="-1" strike="noStrike">
                <a:solidFill>
                  <a:srgbClr val="ffcc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6E1-E37F-46F1-A781-69562BE0DF1B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6BF46-9886-4F45-B850-BC7073A2DEA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F5068-20A7-4475-B52C-8831DA613C2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A5B6F-E4BA-486A-AA40-C3966F28802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6877D-6030-4F9E-86DD-6B529F23269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CA2B9-A48F-4E1D-A96B-B0B31A4A1926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5E9A7-0E34-49ED-A675-DBC6972AE25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NJSZT</dc:creator>
  <dc:description/>
  <dc:language>en-US</dc:language>
  <cp:lastModifiedBy>.</cp:lastModifiedBy>
  <dcterms:modified xsi:type="dcterms:W3CDTF">2003-05-25T08:01:06Z</dcterms:modified>
  <cp:revision>7</cp:revision>
  <dc:subject>ECDL</dc:subject>
  <dc:title>Prezentáció forrás, 18.feladat</dc:title>
</cp:coreProperties>
</file>