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804-459B-479B-BD62-38CBCC04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A87-6BF4-46DA-87AB-8406113E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4CC-F2D4-471E-9175-0FB4145B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5A1-9C8B-4B17-ADB4-5B7F65CE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2FF-DED0-4AC6-9FF7-83B27351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45D-50B4-4E51-9498-5CF1835C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9B3-A3C6-479F-99E1-929C94EA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547-DE36-4F72-979E-3B446E83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ED7-FF9A-48BD-A4BA-13AB0B68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68E-DDBD-4F68-B3AF-9CB0C227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7D6-24EA-4BEB-88A7-3FBC484A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7AB-086E-4828-8229-F36076F7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5168-F87B-4E98-A021-F1343A3AC45B}" type="datetime">
              <a:rPr b="0" lang="en-US" sz="1400" spc="-1" strike="noStrike">
                <a:solidFill>
                  <a:srgbClr val="ffcc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7B32-9920-4D16-ABB0-4AA817820675}" type="slidenum">
              <a:rPr b="0" lang="en-US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1 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2 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3 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4 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5 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83A9A-E919-48FA-AD56-FF83150F154A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D9C28-673F-4199-91B7-E0AA756AC513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városi, 3 szobás, gázfű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D04918_" descr="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C196B-5388-47D2-AD5F-CDE5CE36FD29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96D18-EE78-4EB0-804D-88E0DE44FD4E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4A55D-9333-494B-A462-9E76556CBDFD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A7D23-695D-4981-AAAF-8ED145F3DC3A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NJSZT</dc:creator>
  <dc:description/>
  <dc:language>en-US</dc:language>
  <cp:lastModifiedBy>.</cp:lastModifiedBy>
  <dcterms:modified xsi:type="dcterms:W3CDTF">2003-03-25T14:20:11Z</dcterms:modified>
  <cp:revision>6</cp:revision>
  <dc:subject>ECDL</dc:subject>
  <dc:title>Prezentáció forrás, 19.feladat</dc:title>
</cp:coreProperties>
</file>