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69A-22CB-42D3-85B9-3710B9F9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798-63C4-42E7-830B-75E9F944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C53-D0A1-44BB-9E36-B220556F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6DB-F419-48B3-8F4A-18E789FE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5A1-B75C-4179-878A-FDE78A36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438-ABA4-4776-A676-8E8FFC1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0AE-4C1E-4B86-8D96-C50059DA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4EB-CDB7-4037-95BC-15009059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22B-5C6C-4223-8844-AB828979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15C-A1FD-403E-8F8B-9453D757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E03-6E01-44AE-B1EC-F313421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A33-2B61-4CBD-9EBB-C6473AFD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0288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26396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62504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4279-E1AE-4A37-B7F1-EBFFF0973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858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0666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95280" y="9684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152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143000" y="5335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0520" y="1600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12193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20574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743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43828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14400" y="7621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D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uropean Computer Driving Lic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z ECDL modulja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98108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nformáció és kommunik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2:47:14Z</dcterms:created>
  <dc:creator>NJSZT</dc:creator>
  <dc:description/>
  <dc:language>en-US</dc:language>
  <cp:lastModifiedBy>.</cp:lastModifiedBy>
  <dcterms:modified xsi:type="dcterms:W3CDTF">2003-05-24T20:54:38Z</dcterms:modified>
  <cp:revision>5</cp:revision>
  <dc:subject>ECDL</dc:subject>
  <dc:title>Prezentáció forrás, 2.feladat</dc:title>
</cp:coreProperties>
</file>