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915B-1A7B-463A-8514-784AEF81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6CD-04D4-442B-A76B-D1CE3E7F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C54-E5BD-4D4B-9989-9666A5E2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2FF-3371-4744-A06C-397C2076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A425-6118-4279-B317-5A3ECD00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A69-1681-4C24-AB5F-5C9B7004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90B-9540-48C9-8129-7616B7B1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C79F-7E87-4274-B548-5C2DAF94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333-99F5-4F0D-B5D7-5257E0AA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C92-E95D-4760-801D-B0F66BE9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E59-4CD7-47FA-B0A0-C42B3D9A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DA1-7A71-430E-802A-AA3E7F48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1E6B-FD78-47F8-9548-23C67199B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ációs program ha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á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áció készí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övegek, képek kezel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ramok, rajzobjektum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ktusok alkalma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títés, nyomta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7:28:02Z</dcterms:created>
  <dc:creator>NJSZT</dc:creator>
  <dc:description/>
  <dc:language>en-US</dc:language>
  <cp:lastModifiedBy>.</cp:lastModifiedBy>
  <dcterms:modified xsi:type="dcterms:W3CDTF">2003-02-19T07:38:30Z</dcterms:modified>
  <cp:revision>2</cp:revision>
  <dc:subject>ECDL</dc:subject>
  <dc:title>Prezentáció forrás, 2b.feladat</dc:title>
</cp:coreProperties>
</file>