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F31-06C4-431D-B10E-EF52BE83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447-272F-4B3D-BCFC-69414F0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2AD-B602-4BE1-8DF8-5D892B60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C9D-F964-4B21-A066-64844625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94A-78BF-4EA4-BC77-A127744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26F-7E06-4F52-9009-5C350F4C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812-04E8-4AD1-9C3A-487BC0DB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9B1-5313-4C50-A25F-10ECA12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C00-91A7-41F0-BCBF-4B65852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E1C-F1AA-4DA0-A24F-47628ED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9F3-362D-464C-A4BF-22EDE19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ED4-B43B-4C7A-A6B9-4685F0E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B76-6F95-4F53-9575-603A0A50C8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6375-C27D-4D46-AE67-594C9BAD6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F2A78-C525-4435-AEC1-21B22145B4A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ü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FAE64-9E87-4DE4-82C7-E546538A1E45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D2BC1-61FA-4486-B798-FE7C72E19CC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gnap városunkba látogatott a lengyel munkaüygi miniszter. A tiszteletére tartott fogadás után megtekintette városunk nevezetesége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éten elkészül az Fő-téri szobor rekonstrukciója. A munkálatokat Kő Pál szobrász végz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B57ED-CDB7-4A55-B6B9-B90199120E8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B293D-B5B0-4B09-91A8-4AAD349FAB78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F6934-9DE3-43E1-85BF-0B70DAFC9697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NJSZT</dc:creator>
  <dc:description/>
  <dc:language>en-US</dc:language>
  <cp:lastModifiedBy>.</cp:lastModifiedBy>
  <dcterms:modified xsi:type="dcterms:W3CDTF">2003-05-25T08:37:34Z</dcterms:modified>
  <cp:revision>13</cp:revision>
  <dc:subject>ECDL</dc:subject>
  <dc:title>Prezentáció forrás, 20.feladat</dc:title>
</cp:coreProperties>
</file>