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B9B9-E67F-48E7-AE78-FC4F16674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oft Office alkalmazásokkal kapcsolatban felmerülő kérdéseinkkel forduljunk először az Office Segédhez, majd olvassuk el a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evezetés a Microsoft Office 2000 használatáb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ímű kézikönyvet, vagy az alkalmazásokhoz mellékelt, a legfrissebb információkat tartalmazó "Olvassa.el" fáj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84EA-63B3-4AC8-B312-BD865D39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6C6C-77E0-47B5-9B45-B5C8CA55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4685-21BC-4942-9486-13E9FB15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31FB-38C8-4D71-8433-63A56FEC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0E9A-06ED-4588-8FA1-45ED2BCD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0BD2-6982-4521-A879-C2367BBE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F3CD-7380-45B8-9D8B-4FFA2933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F8A8-503D-46A8-9FF2-2FB1D1A9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8414-B28C-46EC-A31F-4FD25FA6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525C-8A01-42D8-98C2-EAF9AB02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4173-4980-4ED6-B28A-FCCEB7DC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184B-1DE8-4B71-9B5C-889A3468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4D4A-59A7-4191-983C-AADCF4504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XX BEVÁSÁRLÓKÖZPO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41920" y="1371600"/>
            <a:ext cx="249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lelmis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llats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08911_" descr=""/>
          <p:cNvPicPr/>
          <p:nvPr/>
        </p:nvPicPr>
        <p:blipFill>
          <a:blip r:embed="rId1"/>
          <a:stretch/>
        </p:blipFill>
        <p:spPr>
          <a:xfrm>
            <a:off x="5181480" y="3451320"/>
            <a:ext cx="11480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3000" y="1139760"/>
            <a:ext cx="397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onyhafelszere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öny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áté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pír-írós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S00975_" descr=""/>
          <p:cNvPicPr/>
          <p:nvPr/>
        </p:nvPicPr>
        <p:blipFill>
          <a:blip r:embed="rId1"/>
          <a:stretch/>
        </p:blipFill>
        <p:spPr>
          <a:xfrm>
            <a:off x="4648320" y="3809880"/>
            <a:ext cx="441936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5760" y="1139760"/>
            <a:ext cx="408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érfi és női ruház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ip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házati kellé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ortfelszere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E01686_" descr=""/>
          <p:cNvPicPr/>
          <p:nvPr/>
        </p:nvPicPr>
        <p:blipFill>
          <a:blip r:embed="rId1"/>
          <a:stretch/>
        </p:blipFill>
        <p:spPr>
          <a:xfrm>
            <a:off x="5294160" y="3429000"/>
            <a:ext cx="3148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6840" y="1139760"/>
            <a:ext cx="374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V, vid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-F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zámítástechni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D, DV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181160" y="2819520"/>
          <a:ext cx="6781680" cy="3047760"/>
        </p:xfrm>
        <a:graphic>
          <a:graphicData uri="http://schemas.openxmlformats.org/drawingml/2006/table">
            <a:tbl>
              <a:tblPr/>
              <a:tblGrid>
                <a:gridCol w="2260440"/>
                <a:gridCol w="2260800"/>
                <a:gridCol w="226044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yit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r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étközn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omb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árn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95560" y="10663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bevásárlóközpo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yitva tartási ide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990720"/>
            <a:ext cx="1523880" cy="1371600"/>
          </a:xfrm>
          <a:custGeom>
            <a:avLst/>
            <a:gdLst>
              <a:gd name="textAreaLeft" fmla="*/ 237960 w 1523880"/>
              <a:gd name="textAreaRight" fmla="*/ 1413000 w 1523880"/>
              <a:gd name="textAreaTop" fmla="*/ 382680 h 1371600"/>
              <a:gd name="textAreaBottom" fmla="*/ 98892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6025"/>
                </a:moveTo>
                <a:lnTo>
                  <a:pt x="18045" y="6025"/>
                </a:lnTo>
                <a:lnTo>
                  <a:pt x="18045" y="0"/>
                </a:lnTo>
                <a:lnTo>
                  <a:pt x="21600" y="10800"/>
                </a:lnTo>
                <a:lnTo>
                  <a:pt x="18045" y="21600"/>
                </a:lnTo>
                <a:lnTo>
                  <a:pt x="18045" y="15575"/>
                </a:lnTo>
                <a:lnTo>
                  <a:pt x="3375" y="15575"/>
                </a:lnTo>
                <a:close/>
              </a:path>
              <a:path w="21600" h="21600">
                <a:moveTo>
                  <a:pt x="0" y="6025"/>
                </a:moveTo>
                <a:lnTo>
                  <a:pt x="675" y="6025"/>
                </a:lnTo>
                <a:lnTo>
                  <a:pt x="675" y="15575"/>
                </a:lnTo>
                <a:lnTo>
                  <a:pt x="0" y="15575"/>
                </a:lnTo>
                <a:close/>
              </a:path>
              <a:path w="21600" h="21600">
                <a:moveTo>
                  <a:pt x="1350" y="6025"/>
                </a:moveTo>
                <a:lnTo>
                  <a:pt x="2700" y="6025"/>
                </a:lnTo>
                <a:lnTo>
                  <a:pt x="2700" y="15575"/>
                </a:lnTo>
                <a:lnTo>
                  <a:pt x="1350" y="1557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34320" y="990720"/>
            <a:ext cx="1523880" cy="1371600"/>
          </a:xfrm>
          <a:custGeom>
            <a:avLst/>
            <a:gdLst>
              <a:gd name="textAreaLeft" fmla="*/ 237960 w 1523880"/>
              <a:gd name="textAreaRight" fmla="*/ 1413000 w 1523880"/>
              <a:gd name="textAreaTop" fmla="*/ 382680 h 1371600"/>
              <a:gd name="textAreaBottom" fmla="*/ 98892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6025"/>
                </a:moveTo>
                <a:lnTo>
                  <a:pt x="18045" y="6025"/>
                </a:lnTo>
                <a:lnTo>
                  <a:pt x="18045" y="0"/>
                </a:lnTo>
                <a:lnTo>
                  <a:pt x="21600" y="10800"/>
                </a:lnTo>
                <a:lnTo>
                  <a:pt x="18045" y="21600"/>
                </a:lnTo>
                <a:lnTo>
                  <a:pt x="18045" y="15575"/>
                </a:lnTo>
                <a:lnTo>
                  <a:pt x="3375" y="15575"/>
                </a:lnTo>
                <a:close/>
              </a:path>
              <a:path w="21600" h="21600">
                <a:moveTo>
                  <a:pt x="0" y="6025"/>
                </a:moveTo>
                <a:lnTo>
                  <a:pt x="675" y="6025"/>
                </a:lnTo>
                <a:lnTo>
                  <a:pt x="675" y="15575"/>
                </a:lnTo>
                <a:lnTo>
                  <a:pt x="0" y="15575"/>
                </a:lnTo>
                <a:close/>
              </a:path>
              <a:path w="21600" h="21600">
                <a:moveTo>
                  <a:pt x="1350" y="6025"/>
                </a:moveTo>
                <a:lnTo>
                  <a:pt x="2700" y="6025"/>
                </a:lnTo>
                <a:lnTo>
                  <a:pt x="2700" y="15575"/>
                </a:lnTo>
                <a:lnTo>
                  <a:pt x="1350" y="1557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120" y="289548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gtalálható a Könyves és a Fehér út kereszteződéséb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6:39:48Z</dcterms:created>
  <dc:creator>NJSZT</dc:creator>
  <dc:description/>
  <dc:language>en-US</dc:language>
  <cp:lastModifiedBy>.</cp:lastModifiedBy>
  <dcterms:modified xsi:type="dcterms:W3CDTF">2003-03-25T17:01:23Z</dcterms:modified>
  <cp:revision>6</cp:revision>
  <dc:subject>ECDL</dc:subject>
  <dc:title>Prezentáció forrás, 21.feladat</dc:title>
</cp:coreProperties>
</file>