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33A7-FAF4-436A-9380-FA01279FD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oft Office alkalmazásokkal kapcsolatban felmerülő kérdéseinkkel forduljunk először az Office Segédhez, majd olvassuk el 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vezetés a Microsoft Office 2000 használatáb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ímű kézikönyvet, vagy az alkalmazásokhoz mellékelt, a legfrissebb információkat tartalmazó "Olvassa.el" fáj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0C18-A416-4231-BF8E-1C9DAAE8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04A-72D3-4D53-96C0-2DEEEB3A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08EB-23EF-4257-957F-ACC56F60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EAAB-74F5-4BA1-B5C8-D05759BC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ED6E-D60F-4474-B850-2D180979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BB71-B01F-45AC-957F-C7C309ED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D72-AD23-4DCF-AA04-AF7524E2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7EA-F8EB-4A60-8D77-77BDF61D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EA25-CC18-4561-B695-EC1B0105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B10E-18DE-40DA-A7A0-53E1318C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7B5-C716-4383-9D09-A3FBAE6E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3B1-9BE2-413D-BC71-7C30E975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23C9-2C07-403D-B076-4A605F0B5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XX BEVÁSÁRLÓKÖZPO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41920" y="1371600"/>
            <a:ext cx="249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lelmi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lat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8911_" descr=""/>
          <p:cNvPicPr/>
          <p:nvPr/>
        </p:nvPicPr>
        <p:blipFill>
          <a:blip r:embed="rId1"/>
          <a:stretch/>
        </p:blipFill>
        <p:spPr>
          <a:xfrm>
            <a:off x="5181480" y="3451320"/>
            <a:ext cx="11480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3000" y="1139760"/>
            <a:ext cx="397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onyhafelszer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öny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áté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pír-író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S00975_" descr=""/>
          <p:cNvPicPr/>
          <p:nvPr/>
        </p:nvPicPr>
        <p:blipFill>
          <a:blip r:embed="rId1"/>
          <a:stretch/>
        </p:blipFill>
        <p:spPr>
          <a:xfrm>
            <a:off x="4648320" y="3809880"/>
            <a:ext cx="44193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5760" y="1139760"/>
            <a:ext cx="408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érfi és női ruház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p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házati kellé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ortfelszer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E01686_" descr=""/>
          <p:cNvPicPr/>
          <p:nvPr/>
        </p:nvPicPr>
        <p:blipFill>
          <a:blip r:embed="rId1"/>
          <a:stretch/>
        </p:blipFill>
        <p:spPr>
          <a:xfrm>
            <a:off x="5294160" y="3429000"/>
            <a:ext cx="3148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6840" y="1139760"/>
            <a:ext cx="374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V, vid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-F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zámítástechni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, D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181160" y="2819520"/>
          <a:ext cx="6781680" cy="3047760"/>
        </p:xfrm>
        <a:graphic>
          <a:graphicData uri="http://schemas.openxmlformats.org/drawingml/2006/table">
            <a:tbl>
              <a:tblPr/>
              <a:tblGrid>
                <a:gridCol w="2260440"/>
                <a:gridCol w="2260800"/>
                <a:gridCol w="226044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yit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r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étköz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omb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ár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95560" y="1066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bevásárlóközpo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yitva tartási ide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990720"/>
            <a:ext cx="1523880" cy="1371600"/>
          </a:xfrm>
          <a:custGeom>
            <a:avLst/>
            <a:gdLst>
              <a:gd name="textAreaLeft" fmla="*/ 237960 w 1523880"/>
              <a:gd name="textAreaRight" fmla="*/ 1413000 w 1523880"/>
              <a:gd name="textAreaTop" fmla="*/ 382680 h 1371600"/>
              <a:gd name="textAreaBottom" fmla="*/ 98892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6025"/>
                </a:moveTo>
                <a:lnTo>
                  <a:pt x="18045" y="6025"/>
                </a:ln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18045" y="15575"/>
                </a:lnTo>
                <a:lnTo>
                  <a:pt x="3375" y="15575"/>
                </a:lnTo>
                <a:close/>
              </a:path>
              <a:path w="21600" h="21600">
                <a:moveTo>
                  <a:pt x="0" y="6025"/>
                </a:moveTo>
                <a:lnTo>
                  <a:pt x="675" y="6025"/>
                </a:lnTo>
                <a:lnTo>
                  <a:pt x="675" y="15575"/>
                </a:lnTo>
                <a:lnTo>
                  <a:pt x="0" y="15575"/>
                </a:lnTo>
                <a:close/>
              </a:path>
              <a:path w="21600" h="21600">
                <a:moveTo>
                  <a:pt x="1350" y="6025"/>
                </a:moveTo>
                <a:lnTo>
                  <a:pt x="2700" y="6025"/>
                </a:lnTo>
                <a:lnTo>
                  <a:pt x="2700" y="15575"/>
                </a:lnTo>
                <a:lnTo>
                  <a:pt x="1350" y="1557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990720"/>
            <a:ext cx="1523880" cy="1371600"/>
          </a:xfrm>
          <a:custGeom>
            <a:avLst/>
            <a:gdLst>
              <a:gd name="textAreaLeft" fmla="*/ 237960 w 1523880"/>
              <a:gd name="textAreaRight" fmla="*/ 1413000 w 1523880"/>
              <a:gd name="textAreaTop" fmla="*/ 382680 h 1371600"/>
              <a:gd name="textAreaBottom" fmla="*/ 98892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6025"/>
                </a:moveTo>
                <a:lnTo>
                  <a:pt x="18045" y="6025"/>
                </a:ln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18045" y="15575"/>
                </a:lnTo>
                <a:lnTo>
                  <a:pt x="3375" y="15575"/>
                </a:lnTo>
                <a:close/>
              </a:path>
              <a:path w="21600" h="21600">
                <a:moveTo>
                  <a:pt x="0" y="6025"/>
                </a:moveTo>
                <a:lnTo>
                  <a:pt x="675" y="6025"/>
                </a:lnTo>
                <a:lnTo>
                  <a:pt x="675" y="15575"/>
                </a:lnTo>
                <a:lnTo>
                  <a:pt x="0" y="15575"/>
                </a:lnTo>
                <a:close/>
              </a:path>
              <a:path w="21600" h="21600">
                <a:moveTo>
                  <a:pt x="1350" y="6025"/>
                </a:moveTo>
                <a:lnTo>
                  <a:pt x="2700" y="6025"/>
                </a:lnTo>
                <a:lnTo>
                  <a:pt x="2700" y="15575"/>
                </a:lnTo>
                <a:lnTo>
                  <a:pt x="1350" y="1557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28954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gtalálható a Könyves és a Fehér út kereszteződésé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39:48Z</dcterms:created>
  <dc:creator>NJSZT</dc:creator>
  <dc:description/>
  <dc:language>en-US</dc:language>
  <cp:lastModifiedBy>.</cp:lastModifiedBy>
  <dcterms:modified xsi:type="dcterms:W3CDTF">2003-03-25T17:01:23Z</dcterms:modified>
  <cp:revision>6</cp:revision>
  <dc:subject>ECDL</dc:subject>
  <dc:title>Prezentáció forrás, 22.feladat</dc:title>
</cp:coreProperties>
</file>