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C5AD-8BA3-4956-9FD7-132EEA713FD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ünnepélyes díjkiosztó tervezett kezdési időpontja: 18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gnyitó beszédet Dr. Kiss Ödön polgármester mond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yszín a futballpálya, rossz idő esetén a tornate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utcabál rossz idő esetén elmar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989000"/>
            <a:ext cx="1440000" cy="2880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04000" y="1989000"/>
            <a:ext cx="1440000" cy="2880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0360" y="246780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1. délután – szomszéd települések barátságos futballmér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1. dél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 – általános és középiskolások futballmér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2. dél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 – futó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2400480"/>
            <a:ext cx="7925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2. délután – úszó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3. délel</a:t>
            </a:r>
            <a:r>
              <a:rPr b="1" lang="hu-HU" sz="2400" spc="-1" strike="noStrike">
                <a:solidFill>
                  <a:srgbClr val="ffffff"/>
                </a:solidFill>
                <a:latin typeface="Courier New"/>
              </a:rPr>
              <a:t>ő</a:t>
            </a:r>
            <a:r>
              <a:rPr b="1" lang="hu-H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tt – kerékpár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3. délután – ünnepélyes díjkiosz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21:11:07Z</dcterms:created>
  <dc:creator>NJSZT</dc:creator>
  <dc:description/>
  <dc:language>en-US</dc:language>
  <cp:lastModifiedBy>.</cp:lastModifiedBy>
  <dcterms:modified xsi:type="dcterms:W3CDTF">2003-05-25T09:18:37Z</dcterms:modified>
  <cp:revision>11</cp:revision>
  <dc:subject>ECDL</dc:subject>
  <dc:title>Prezentáció forrás, 23.feladat</dc:title>
</cp:coreProperties>
</file>