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F72E-5E66-44BB-A961-FBD90569872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 ünnepélyes díjkiosztó tervezett kezdési időpontja: 18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egnyitó beszédet Dr. Kiss Ödön polgármester mondj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yszín a futballpálya, rossz idő esetén a tornater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 utcabál rossz idő esetén elmar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989000"/>
            <a:ext cx="1440000" cy="2880000"/>
          </a:xfrm>
          <a:prstGeom prst="rect">
            <a:avLst/>
          </a:prstGeom>
          <a:noFill/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04000" y="1989000"/>
            <a:ext cx="1440000" cy="2880000"/>
          </a:xfrm>
          <a:prstGeom prst="rect">
            <a:avLst/>
          </a:prstGeom>
          <a:noFill/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0360" y="2467800"/>
            <a:ext cx="829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úlius 1. délután – szomszéd települések barátságos futballmérk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ő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úlius 1. déle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ő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t – általános és középiskolások futballmérk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ő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úlius 2. déle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ő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t – futóvers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0360" y="2400480"/>
            <a:ext cx="7924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július 2. délután – úszóvers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július 3. délel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ő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tt – kerékpárvers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július 3. délután – ünnepélyes díjkiosztó, utcabá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21:11:07Z</dcterms:created>
  <dc:creator>NJSZT</dc:creator>
  <dc:description/>
  <dc:language>en-US</dc:language>
  <cp:lastModifiedBy>.</cp:lastModifiedBy>
  <dcterms:modified xsi:type="dcterms:W3CDTF">2003-05-25T11:21:35Z</dcterms:modified>
  <cp:revision>12</cp:revision>
  <dc:subject>ECDL</dc:subject>
  <dc:title>Prezentáció forrás, 24.feladat</dc:title>
</cp:coreProperties>
</file>