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63C-0363-4FB7-8C0A-4ED47FD9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B09-0297-4BA7-80A6-930D0F0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ADB-BADB-4D3D-9816-A899B5E3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25D-6E02-4841-969D-3FEF13D5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91C-5A5E-4F0C-B326-886A4884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DB0-514C-4942-9420-91C1B908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4D7C-8620-4E1F-AE6F-7E26935A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7174-F7A7-4328-A94B-A494A2BB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A34-E42E-4E79-8B1F-309DFD1F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C22E-F1B2-49BC-9996-0BB5622C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D6C-707F-4D2E-B430-BCD2404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93F-9FC1-4B35-8AFD-C9C6C60B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D449-AE34-469E-98AB-C0153E1D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0E13-9D59-4BD4-BFE1-4F6096E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9B1B-B8B6-4304-A756-26B0517A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AEA4-54ED-4D78-B7D6-D077CF5F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BD44-9640-48BD-9927-AC817387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5D5-DAAF-4857-B84A-24E2F1B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7E6-FE30-41E4-A24C-167DDEA5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661-BCDA-4F67-AB04-C81C98E9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E85-FBE3-44BA-866F-6CA05E4E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2F4-16FF-4600-B16E-39169011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EEE-2E10-454C-9C55-147D8BE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08A-17A5-4637-A626-54281F36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C819-A43C-4419-BE33-A1A2EFACE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7327-5F7B-46FF-9E38-037734B5C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észvénytársaságunk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rodaházak, raktárak, üzletközpontok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ervezésével és kivitelezésével foglalkozik. Sikeres üzletpolitikánk titka az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gényesség, gyorsaság és megbízhatóság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Ezt bizonyítja, hogy megalakulásunk óta több mint 40 jelentős beruházást hajtottunk vég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Jegyezzen Ön is részvényünkb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236232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66960" y="2773440"/>
            <a:ext cx="720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További felvilágosításért hívja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999-9999-es telefonszámo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1:57:31Z</dcterms:created>
  <dc:creator>NJSZT</dc:creator>
  <dc:description/>
  <dc:language>en-US</dc:language>
  <cp:lastModifiedBy>.</cp:lastModifiedBy>
  <dcterms:modified xsi:type="dcterms:W3CDTF">2003-06-03T18:38:42Z</dcterms:modified>
  <cp:revision>11</cp:revision>
  <dc:subject>ECDL</dc:subject>
  <dc:title>Prezentáció forrás, 25.feladat</dc:title>
</cp:coreProperties>
</file>