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F70-69FF-4C8F-9381-91705C90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80A-EDF4-4A4A-9F2E-7432F58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6E5-168C-4B36-A779-CC2E1016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126-CF19-4E4E-B539-D299B47B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79B6-6B7B-443B-9B2A-3F4E8E27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1CBD-9419-4C82-B082-4625DC3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B472-48F9-4BAE-8372-882D0B85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BCF-4E06-4D5A-A883-C9F18366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DA36-66D7-4D5C-BFC4-4B3F413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3C22-F6B2-44A6-B8EB-273730D7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24D2-2C29-422E-A24A-81509E67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1CF-9B80-4E11-9D6A-49A931C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0319-589F-4403-9E0A-6A62EE0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313-E03B-4B6B-B29C-EA135A1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10B-3D38-49E5-B669-3BEC11F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801-AFD6-4A12-AC3D-27DFB68D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0A3C-C126-4124-A195-DB7215D5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8F2-6FBB-401C-B22A-8C38A13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427-0C2A-4CE2-B442-9F569E6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262-6AD5-4333-9DAA-A4A95A0B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12F-3988-435A-83B5-2933A80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EDC-01E5-4A35-91E7-A8C9BA1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D47-62AB-4894-8A88-62C29C4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B08-6780-4B07-BA74-AE9F9B6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2A6-A3D3-47CB-B0A9-24676BE6E65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77A-31CE-4BC2-95DF-47DA80303EC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észvénytársaságunk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rodaházak, raktárak, üzletközpontok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ervezésével és kivitelezésével foglalkozik. Sikeres üzletpolitikánk titka az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gényesség, gyorsaság és megbízhatósá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Ezt bizonyítja, hogy megalakulásunk óta több mint 40 jelentős beruházást hajtottunk vé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egyezzen Ön is részvényünkb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66960" y="2833560"/>
            <a:ext cx="72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További felvilágosításért hívja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999-9999-es telefonszám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1:57:31Z</dcterms:created>
  <dc:creator>NJSZT</dc:creator>
  <dc:description/>
  <dc:language>en-US</dc:language>
  <cp:lastModifiedBy>.</cp:lastModifiedBy>
  <dcterms:modified xsi:type="dcterms:W3CDTF">2003-05-26T19:44:00Z</dcterms:modified>
  <cp:revision>12</cp:revision>
  <dc:subject>ECDL</dc:subject>
  <dc:title>Prezentáció forrás, 26.feladat</dc:title>
</cp:coreProperties>
</file>