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269C-987A-4AA9-B262-9ECED8DE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5A0-0070-4060-83F3-E5CBD2EE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E914-4712-49FD-A315-C1860A35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7F5-0F4C-42C3-89B2-A2D86487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D9E3-9FF8-44F3-BA68-EE675976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EFE7-B809-4954-89F2-D4ED2AE1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0894-D28D-40BC-B68D-AFDE9CFF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227A-6F70-4719-B922-26B2C0FB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F31-3F0D-4C84-91D5-57F0E988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D243-5724-4DBF-8367-B5625611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E81-3A30-473D-A989-D2FA6514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A09A-0DA7-43B3-BB92-F925796C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9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9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2549-F74B-4599-9FED-1E9922DAD7BA}" type="slidenum">
              <a:rPr b="0" lang="en-US" sz="14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743200"/>
            <a:ext cx="304920" cy="30492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457200"/>
            <a:ext cx="609480" cy="60948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96080" y="2438280"/>
            <a:ext cx="1295640" cy="129564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2286000"/>
            <a:ext cx="228600" cy="2286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447920" y="99072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09680" y="4495680"/>
            <a:ext cx="762120" cy="76212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5867280" y="4343400"/>
            <a:ext cx="152640" cy="15228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295280" y="5486400"/>
            <a:ext cx="228600" cy="2286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267080" y="518148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696080" y="5029200"/>
            <a:ext cx="304920" cy="30492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04920" y="304920"/>
            <a:ext cx="609480" cy="6094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Naprendszerünk bolygói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Neptunusz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48600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165,5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5,4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Merkúr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4880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0,24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48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Vénusz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12104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0,62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35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Föld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12756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1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30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Mars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6794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1,88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24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Jupiter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142796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11,87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22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Szaturnusz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120000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29,62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9,6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Uránusz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50800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84,6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6,8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Plútó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2300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251,9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4,7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9:59:50Z</dcterms:created>
  <dc:creator>NJSZT</dc:creator>
  <dc:description/>
  <dc:language>en-US</dc:language>
  <cp:lastModifiedBy>.</cp:lastModifiedBy>
  <dcterms:modified xsi:type="dcterms:W3CDTF">2003-05-25T11:40:01Z</dcterms:modified>
  <cp:revision>14</cp:revision>
  <dc:subject>ECDL</dc:subject>
  <dc:title>Prezentáció forrás, 27.feladat</dc:title>
</cp:coreProperties>
</file>