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D84-93E7-4412-BF58-858E4FC8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85F-2690-457D-B972-08BABA5B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374-68D2-4A31-98BE-03AB5517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07D-D84D-4B7C-9036-2A351386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6D63-E3A5-493B-8DF4-06DA07B0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6E6E-2205-48FA-A091-AD051E81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9C85-DA66-4B52-A624-CBB5802A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0689-8F34-47D6-8E79-1F894B0E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4BEF-B7E3-42F0-B497-DA08A719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6DAD-6B48-4F59-AC93-6863D9E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1B12-2C28-453F-BDD5-CCB8AE0A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C76-6A3B-4D57-A978-6BEE336F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3AC-130A-4E5B-82BE-C5990F9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E0FE-8AD6-46CD-8049-8FD11FA8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46E7-44B9-4D64-BBAE-AEAAEF7D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C5B7-F16A-4BD1-8B3C-08F0A594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1229-3282-41CF-AD34-88AD0DD6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CE0-C6FA-4145-9503-D54BF3F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D3C-D26F-4C7E-9F4B-F3DFF14B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7F8-E1E4-4A2D-88CD-BB3FB33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B97-EF95-41C6-B27E-7BD50A58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03A-126E-4173-8758-647213B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EB5-3986-47CA-9058-34B207B7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345-DB31-4F26-8A56-9DD9F8A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B869-F4D6-417D-A749-DEA17E3B07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7028-16BE-4CDF-858F-E7BA112E2B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aprendszerünk bolygó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út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23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251,9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4,7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rkú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488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0,24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48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é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Átmérője: 1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000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Keringési idő: 0,62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ebesség: 35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öl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2756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30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6794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,88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24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pi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42796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1,87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13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zatur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200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29,62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9,6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rá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508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84,6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6,8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ptu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486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65,5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5,4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59:50Z</dcterms:created>
  <dc:creator>NJSZT</dc:creator>
  <dc:description/>
  <dc:language>en-US</dc:language>
  <cp:lastModifiedBy>.</cp:lastModifiedBy>
  <dcterms:modified xsi:type="dcterms:W3CDTF">2003-03-07T20:00:45Z</dcterms:modified>
  <cp:revision>14</cp:revision>
  <dc:subject>ECDL</dc:subject>
  <dc:title>Prezentáció forrás, 28.feladat</dc:title>
</cp:coreProperties>
</file>