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96F-04DE-4506-9548-56E713E3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899-C2C8-463D-A972-784AE26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156-B110-4DFB-86B4-7A4F64D8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884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52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884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52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B1F-74F8-4D20-BFBE-952D68FE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A5D-3007-4460-9CAD-EC778D06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551-43A1-4B0D-88CF-3ABC637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8F8-A44A-4267-A358-6D7B32F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C9B-BD0C-4395-B3D5-84CA45BE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62E-8638-46DB-9739-A1454FA3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2B2-9662-4CFA-A2D0-6EAF844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B30-DEB8-4B61-A0F0-CDD6F6A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A38-C855-489C-B87F-A8EEF67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2B41-E03D-46B8-ABA6-7FFD65754EB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ilkos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5 cm széles is lehet, sárgászöld szín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12 cm magas, alján bocsk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halálosan mérgező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őzlábg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25–30 cm széles, felülete pikkel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sűrűek, fehérek, majd barnás árnyalatú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40 cm magas is lehet, belül üre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, finom íz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ti csip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2 cm átmérőjű is lehet, fehér szín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világos rózsaszínű, majd sötétba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átmérője legfeljebb 2 cm, gallé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őzláb" descr=""/>
          <p:cNvPicPr/>
          <p:nvPr/>
        </p:nvPicPr>
        <p:blipFill>
          <a:blip r:embed="rId1"/>
          <a:stretch/>
        </p:blipFill>
        <p:spPr>
          <a:xfrm>
            <a:off x="1143000" y="2055960"/>
            <a:ext cx="1863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18:31:04Z</dcterms:created>
  <dc:creator>NJSZT</dc:creator>
  <dc:description/>
  <dc:language>en-US</dc:language>
  <cp:lastModifiedBy>.</cp:lastModifiedBy>
  <dcterms:modified xsi:type="dcterms:W3CDTF">2003-05-26T20:21:32Z</dcterms:modified>
  <cp:revision>6</cp:revision>
  <dc:subject>ECDL</dc:subject>
  <dc:title>Prezentáció forrás, 29.feladat</dc:title>
</cp:coreProperties>
</file>