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882-D2CF-4EF6-A6CF-59310246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0FE-D86F-4B39-9309-EDE3C4B4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24C-5427-4D03-9029-4AB12562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AE9-5994-47A3-9913-C3F0C617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500-2E15-402A-9152-C4B94729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BE8-23D3-43D2-A522-07D555CC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075-F897-4144-B845-4D500168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075-B782-432B-82DB-F49F1BDF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E2F-F244-4372-AA66-929A5745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92E-FD16-4BAB-9BE2-19289C88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52E-F4C2-43FF-A592-A8E45EA1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6D0-846B-408B-90F3-47F64098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E2B4-3220-4072-8A96-772CE9B17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382240" cy="5943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égyölő galó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1828800"/>
            <a:ext cx="5867640" cy="3809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lap: pettyekkel borított vörös vagy narancssár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ezek: fehérek és sűrű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önk: fehér színű, hosszú lelógó gallé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gyaszthatóság: mérgez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20:22:00Z</dcterms:created>
  <dc:creator>NJSZT</dc:creator>
  <dc:description/>
  <dc:language>en-US</dc:language>
  <cp:lastModifiedBy>.</cp:lastModifiedBy>
  <dcterms:modified xsi:type="dcterms:W3CDTF">2003-05-26T20:29:52Z</dcterms:modified>
  <cp:revision>2</cp:revision>
  <dc:subject>ECDL</dc:subject>
  <dc:title>Prezentáció forrás, 29b.feladat</dc:title>
</cp:coreProperties>
</file>