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3FF-5932-47C5-8AC1-DEA2BEAD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6EC-04E6-4E04-B57B-440420F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278-FB0A-4196-B93E-AE260A03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320-B977-461E-9052-6FEACA81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26F-FCE0-4497-8E2C-4FD9034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24E-9EF6-4BD7-B6FD-2A611B2B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2FD-E1D1-4C09-BD51-0D3C6CD4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7FE-14B5-42AA-90A6-2B3EF16E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BD4-E236-4784-A7BA-FA4E110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A68-ADAE-4B07-9DFA-3868C26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922-5CAB-43BA-A483-4055E361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846-7C3F-4E8C-AB5F-F242FF2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3E8D-EF64-4B35-9026-30428C35A410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1F34-93D6-4813-A7B0-290240E6046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38200"/>
            <a:ext cx="4114800" cy="164700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bant 601 elad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ó! Ár: 90 000 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777-77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7840" y="3598920"/>
            <a:ext cx="4114800" cy="216468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tsubishi Galant, 1800 cm</a:t>
            </a:r>
            <a:r>
              <a:rPr b="0" lang="hu-HU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, kiváló állapotban elad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999-99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ri tevékenységre alkalmas családi ház eladó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888-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426708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latonparti nyaraló eladó. Ár: 45 millió 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.: 666-66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143820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cserélném budapesti 2 szobás lakásomat székesfehérvári 2 szobásra. Tel.: 111-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+fél szobás lakás eladó. Érd.: XXX Ingatlaniro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7840" y="3598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zobás családi házamat elcserélném 2 földszinti lakás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XXX Ingatlanir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fél szobás, 43 nm-es üres lakás hosszú távra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d.: 555-5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426708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ép, 2 szobás lakás igényeseknek, hosszú távra, bútorozottan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444-4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nyhalak eladó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7840" y="359892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éves ékszerteknősöm elcserélném fiatalabb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971800"/>
          <a:ext cx="7772400" cy="2438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ossá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lalkozó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é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498760" y="159228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87040" y="159696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rdetési ár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44792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426708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0:13:26Z</dcterms:created>
  <dc:creator>NJSZT</dc:creator>
  <dc:description/>
  <dc:language>en-US</dc:language>
  <cp:lastModifiedBy>.</cp:lastModifiedBy>
  <dcterms:modified xsi:type="dcterms:W3CDTF">2003-06-03T18:28:18Z</dcterms:modified>
  <cp:revision>9</cp:revision>
  <dc:subject>ECDL</dc:subject>
  <dc:title>Prezentáció forrás, 3.feladat</dc:title>
</cp:coreProperties>
</file>