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58C6-2654-4141-9592-31A072B30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2D03-66FA-45D8-881D-D19CA428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DCFB-6DA6-4D84-8E63-6C65070A9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06BC-4C53-4835-B82F-E7E0B4B64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EDA4-695D-4E8C-9262-3DC4B9BE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3802-ABB7-428A-B4C2-4A3160A4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A18C-9939-450F-888E-24F9C6CF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5291-D608-4C88-A1A4-E1110842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03BC-02C6-4E14-B2D2-32321333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0AF4-E5CD-41DE-8E06-5540B55B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B2E3-82A2-461A-AA66-DA5DF4F5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8B89-8066-43ED-A796-EEB6FCE7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2B9B-5409-4DF1-834B-4E97860AC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ve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zet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mutatkoz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élkitűzés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őbeosz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ső té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éma felvázol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éma kifejt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érdések és válasz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19:57:25Z</dcterms:created>
  <dc:creator>NJSZT</dc:creator>
  <dc:description/>
  <dc:language>en-US</dc:language>
  <cp:lastModifiedBy>.</cp:lastModifiedBy>
  <dcterms:modified xsi:type="dcterms:W3CDTF">2003-03-11T19:57:39Z</dcterms:modified>
  <cp:revision>1</cp:revision>
  <dc:subject>ECDL</dc:subject>
  <dc:title>Prezentáció forrás, 3b.feladat</dc:title>
</cp:coreProperties>
</file>