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97C-F461-4E14-AC37-A16FAAF6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A80-EAE3-4CDC-85E1-4964B5AD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775-D2AC-451B-B9A7-C3501BA4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884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52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884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52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FBB-8D98-4161-9E61-8C46FE24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650-B39D-41C5-B872-440B8EEF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6EC-60D5-44AC-B397-74C3434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D86-9692-4934-8532-FE51D933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B18-4893-4325-A062-4A522DF8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849-78B4-4D6D-BFD5-0FB680F9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5B3-3551-49A1-B9E7-8D325C6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7C7-F62C-4DE5-998B-DCC4E65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A96-B18A-49CC-8B85-DCC67B1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2DA3-768A-4034-85A3-6F7EED9C8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ilkos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5 cm széles is lehet, sárgászöld szín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12 cm magas, alján bocsk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halálosan mérgező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őzlábg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25–30 cm széles, felülete pikkel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sűrűek, fehérek, majd barnás árnyalatú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40 cm magas is lehet, belül üre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, finom íz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ti csip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2 cm átmérőjű is lehet, fehér szín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világos rózsaszínű, majd sötétba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átmérője legfeljebb 2 cm, gallé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őzláb" descr=""/>
          <p:cNvPicPr/>
          <p:nvPr/>
        </p:nvPicPr>
        <p:blipFill>
          <a:blip r:embed="rId1"/>
          <a:stretch/>
        </p:blipFill>
        <p:spPr>
          <a:xfrm>
            <a:off x="1143000" y="2055960"/>
            <a:ext cx="1863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18:31:04Z</dcterms:created>
  <dc:creator>NJSZT</dc:creator>
  <dc:description/>
  <dc:language>en-US</dc:language>
  <cp:lastModifiedBy>.</cp:lastModifiedBy>
  <dcterms:modified xsi:type="dcterms:W3CDTF">2003-05-26T20:21:56Z</dcterms:modified>
  <cp:revision>5</cp:revision>
  <dc:subject>ECDL</dc:subject>
  <dc:title>Prezentáció forrás, 30.feladat</dc:title>
</cp:coreProperties>
</file>