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0B1E-6DDC-40BF-8100-1A229782B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1: tervezés, fejlesztés, gyártás, telepítés és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2: gyártás, telepítés,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3: végellenőrzés és vizs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A92-11A6-49E7-8B0F-67F52A75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A40-2521-4944-8C35-7090DD5E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350-4361-4262-867C-F0607E92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E89-6923-4E19-9596-386BAD70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89B-8023-4E52-8709-D1A0F364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E93-E79B-4700-ADB3-FDDE244B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3CA-09C7-4D76-A53E-74891581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360-A23B-40F2-B054-4FF45F8A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82D-BF91-4E82-9E7A-37E64E2A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A96-C038-4B3A-BD4D-6E7C8CE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5AA-4E7E-43E9-AEC2-960EB18A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1E8-C441-4CA2-A647-558CB4A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FE95-91A2-41A4-BA59-9113BDF11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51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sadalmi, g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i 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ban fogla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járásokat, tevékenység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zköz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elősségeket, hatáskör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ételhetőség, többszöröz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rélhetőség, csatlakoztathat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vők tájé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zetközi 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ISO 9000 szabványcsalá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NJSZT</dc:creator>
  <dc:description/>
  <dc:language>en-US</dc:language>
  <cp:lastModifiedBy>.</cp:lastModifiedBy>
  <dcterms:modified xsi:type="dcterms:W3CDTF">2003-05-04T16:47:30Z</dcterms:modified>
  <cp:revision>5</cp:revision>
  <dc:subject>ECDL</dc:subject>
  <dc:title>Prezentáció forrás, 30b.feladat</dc:title>
</cp:coreProperties>
</file>