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0EA-5084-4A2A-BD34-2E695F65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96A-323F-4920-9B76-EFD99C77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565-EF4B-443C-8A31-8EEC8D2D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C1D-9F50-4ECF-A6A5-7B7D4780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248-623D-446B-A9A2-9702635F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E09-798E-47C7-8AF9-58205A69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6ED-B3E2-4DD0-BC98-C275FB10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383-6606-45B9-BFB9-98AE5E38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E93-D66E-4B6D-AE0E-EF3CA653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1E1-11B8-4771-95A8-FB9F256B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645-4611-420D-B1E9-E05E8F96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A31-E7B9-4D34-8B60-4889D840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5760" y="165240"/>
            <a:ext cx="9914040" cy="65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488C-49C9-4DD7-ADFE-FC1A68608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nfolyami kínálatunkbó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ámítástechnikai alapismeretek, 2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övegszerkesztés, 3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áblázatkezelés, 36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zentációkészítés, 2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DL, 15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ámítástechnikai szoftverüzemeltető, 25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ámítástechnikai programozó, 120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5240" y="6094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Út az emelt szintű végzettségh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00240" y="5078160"/>
            <a:ext cx="7415280" cy="1170000"/>
          </a:xfrm>
          <a:custGeom>
            <a:avLst/>
            <a:gdLst>
              <a:gd name="textAreaLeft" fmla="*/ 1122120 w 7415280"/>
              <a:gd name="textAreaRight" fmla="*/ 6293160 w 7415280"/>
              <a:gd name="textAreaTop" fmla="*/ 177120 h 1170000"/>
              <a:gd name="textAreaBottom" fmla="*/ 99288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65" y="21600"/>
                </a:lnTo>
                <a:lnTo>
                  <a:pt x="2735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127240" y="4013640"/>
            <a:ext cx="5560920" cy="1063800"/>
          </a:xfrm>
          <a:custGeom>
            <a:avLst/>
            <a:gdLst>
              <a:gd name="textAreaLeft" fmla="*/ 927720 w 5560920"/>
              <a:gd name="textAreaRight" fmla="*/ 4633200 w 5560920"/>
              <a:gd name="textAreaTop" fmla="*/ 177480 h 1063800"/>
              <a:gd name="textAreaBottom" fmla="*/ 886320 h 106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263" y="21600"/>
                </a:lnTo>
                <a:lnTo>
                  <a:pt x="3337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zámítástechnikai szoftverüzemeltet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00 ó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997360" y="1675440"/>
            <a:ext cx="3821040" cy="2338200"/>
          </a:xfrm>
          <a:custGeom>
            <a:avLst/>
            <a:gdLst>
              <a:gd name="textAreaLeft" fmla="*/ 1370880 w 3821040"/>
              <a:gd name="textAreaRight" fmla="*/ 2450160 w 3821040"/>
              <a:gd name="textAreaTop" fmla="*/ 838800 h 2338200"/>
              <a:gd name="textAreaBottom" fmla="*/ 1499400 h 23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zámítástechnika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oz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950 ó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527040" y="907920"/>
            <a:ext cx="8667360" cy="4103280"/>
            <a:chOff x="527040" y="907920"/>
            <a:chExt cx="8667360" cy="4103280"/>
          </a:xfrm>
        </p:grpSpPr>
        <p:cxnSp>
          <p:nvCxnSpPr>
            <p:cNvPr id="49" name="_s10244"/>
            <p:cNvCxnSpPr>
              <a:stCxn id="50" idx="1"/>
              <a:endCxn id="51" idx="2"/>
            </p:cNvCxnSpPr>
            <p:nvPr/>
          </p:nvCxnSpPr>
          <p:spPr>
            <a:xfrm rot="10800000">
              <a:off x="6647040" y="3251880"/>
              <a:ext cx="253440" cy="146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10245"/>
            <p:cNvCxnSpPr>
              <a:stCxn id="53" idx="1"/>
              <a:endCxn id="51" idx="2"/>
            </p:cNvCxnSpPr>
            <p:nvPr/>
          </p:nvCxnSpPr>
          <p:spPr>
            <a:xfrm rot="10800000">
              <a:off x="6647040" y="3251880"/>
              <a:ext cx="253440" cy="58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0246"/>
            <p:cNvCxnSpPr>
              <a:stCxn id="55" idx="1"/>
              <a:endCxn id="56" idx="2"/>
            </p:cNvCxnSpPr>
            <p:nvPr/>
          </p:nvCxnSpPr>
          <p:spPr>
            <a:xfrm rot="10800000">
              <a:off x="1292760" y="3251880"/>
              <a:ext cx="253440" cy="146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247"/>
            <p:cNvCxnSpPr>
              <a:stCxn id="58" idx="1"/>
              <a:endCxn id="56" idx="2"/>
            </p:cNvCxnSpPr>
            <p:nvPr/>
          </p:nvCxnSpPr>
          <p:spPr>
            <a:xfrm rot="10800000">
              <a:off x="1292760" y="3251880"/>
              <a:ext cx="253440" cy="58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0248"/>
            <p:cNvCxnSpPr>
              <a:stCxn id="60" idx="0"/>
              <a:endCxn id="61" idx="2"/>
            </p:cNvCxnSpPr>
            <p:nvPr/>
          </p:nvCxnSpPr>
          <p:spPr>
            <a:xfrm flipV="1" rot="16200000">
              <a:off x="7837200" y="2073600"/>
              <a:ext cx="293760" cy="8913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49"/>
            <p:cNvCxnSpPr>
              <a:stCxn id="51" idx="0"/>
              <a:endCxn id="61" idx="2"/>
            </p:cNvCxnSpPr>
            <p:nvPr/>
          </p:nvCxnSpPr>
          <p:spPr>
            <a:xfrm flipH="1" flipV="1" rot="5400000">
              <a:off x="6946200" y="2073960"/>
              <a:ext cx="293760" cy="8913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250"/>
            <p:cNvCxnSpPr>
              <a:stCxn id="64" idx="0"/>
              <a:endCxn id="65" idx="2"/>
            </p:cNvCxnSpPr>
            <p:nvPr/>
          </p:nvCxnSpPr>
          <p:spPr>
            <a:xfrm flipV="1" rot="16200000">
              <a:off x="3823560" y="1625760"/>
              <a:ext cx="293760" cy="178740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251"/>
            <p:cNvCxnSpPr>
              <a:stCxn id="67" idx="0"/>
              <a:endCxn id="65" idx="2"/>
            </p:cNvCxnSpPr>
            <p:nvPr/>
          </p:nvCxnSpPr>
          <p:spPr>
            <a:xfrm flipV="1">
              <a:off x="3077280" y="2372760"/>
              <a:ext cx="2160" cy="2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252"/>
            <p:cNvCxnSpPr>
              <a:stCxn id="56" idx="0"/>
              <a:endCxn id="65" idx="2"/>
            </p:cNvCxnSpPr>
            <p:nvPr/>
          </p:nvCxnSpPr>
          <p:spPr>
            <a:xfrm flipH="1" flipV="1" rot="5400000">
              <a:off x="2038320" y="1627560"/>
              <a:ext cx="293760" cy="17841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253"/>
            <p:cNvCxnSpPr>
              <a:stCxn id="61" idx="0"/>
              <a:endCxn id="70" idx="2"/>
            </p:cNvCxnSpPr>
            <p:nvPr/>
          </p:nvCxnSpPr>
          <p:spPr>
            <a:xfrm flipV="1" rot="16200000">
              <a:off x="6276600" y="524880"/>
              <a:ext cx="293760" cy="22305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254"/>
            <p:cNvCxnSpPr>
              <a:stCxn id="65" idx="0"/>
              <a:endCxn id="70" idx="2"/>
            </p:cNvCxnSpPr>
            <p:nvPr/>
          </p:nvCxnSpPr>
          <p:spPr>
            <a:xfrm flipH="1" flipV="1" rot="5400000">
              <a:off x="4046040" y="524520"/>
              <a:ext cx="293760" cy="223200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0" name="_s10255"/>
            <p:cNvSpPr/>
            <p:nvPr/>
          </p:nvSpPr>
          <p:spPr>
            <a:xfrm>
              <a:off x="4541760" y="907920"/>
              <a:ext cx="1530000" cy="586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anfolyamain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10256"/>
            <p:cNvSpPr/>
            <p:nvPr/>
          </p:nvSpPr>
          <p:spPr>
            <a:xfrm>
              <a:off x="2312280" y="1787040"/>
              <a:ext cx="1530000" cy="5860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Informatik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10257"/>
            <p:cNvSpPr/>
            <p:nvPr/>
          </p:nvSpPr>
          <p:spPr>
            <a:xfrm>
              <a:off x="6773400" y="1787040"/>
              <a:ext cx="1530000" cy="5860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yel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10258"/>
            <p:cNvSpPr/>
            <p:nvPr/>
          </p:nvSpPr>
          <p:spPr>
            <a:xfrm>
              <a:off x="527040" y="2666520"/>
              <a:ext cx="153000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lapfokú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10259"/>
            <p:cNvSpPr/>
            <p:nvPr/>
          </p:nvSpPr>
          <p:spPr>
            <a:xfrm>
              <a:off x="2312280" y="2666520"/>
              <a:ext cx="153000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középfokú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10260"/>
            <p:cNvSpPr/>
            <p:nvPr/>
          </p:nvSpPr>
          <p:spPr>
            <a:xfrm>
              <a:off x="4097520" y="2666520"/>
              <a:ext cx="153000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melt szintű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10261"/>
            <p:cNvSpPr/>
            <p:nvPr/>
          </p:nvSpPr>
          <p:spPr>
            <a:xfrm>
              <a:off x="5882760" y="2666520"/>
              <a:ext cx="152820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ngo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10262"/>
            <p:cNvSpPr/>
            <p:nvPr/>
          </p:nvSpPr>
          <p:spPr>
            <a:xfrm>
              <a:off x="7665840" y="2666520"/>
              <a:ext cx="152856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éme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10263"/>
            <p:cNvSpPr/>
            <p:nvPr/>
          </p:nvSpPr>
          <p:spPr>
            <a:xfrm>
              <a:off x="1546920" y="3545640"/>
              <a:ext cx="1528200" cy="5860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CD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10264"/>
            <p:cNvSpPr/>
            <p:nvPr/>
          </p:nvSpPr>
          <p:spPr>
            <a:xfrm>
              <a:off x="1546920" y="4425120"/>
              <a:ext cx="1528200" cy="5860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CDL Star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_s10265"/>
            <p:cNvSpPr/>
            <p:nvPr/>
          </p:nvSpPr>
          <p:spPr>
            <a:xfrm>
              <a:off x="6900840" y="3545640"/>
              <a:ext cx="152856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kezdő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_s10266"/>
            <p:cNvSpPr/>
            <p:nvPr/>
          </p:nvSpPr>
          <p:spPr>
            <a:xfrm>
              <a:off x="6900840" y="4425120"/>
              <a:ext cx="152856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aladó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143680" y="5715000"/>
            <a:ext cx="485748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8:13:02Z</dcterms:created>
  <dc:creator>.</dc:creator>
  <dc:description/>
  <dc:language>en-US</dc:language>
  <cp:lastModifiedBy>Rokobauer József</cp:lastModifiedBy>
  <dcterms:modified xsi:type="dcterms:W3CDTF">2008-05-21T09:14:34Z</dcterms:modified>
  <cp:revision>19</cp:revision>
  <dc:subject/>
  <dc:title>Tanfolyami kínálatunkból</dc:title>
</cp:coreProperties>
</file>