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E8FC-C751-40A5-A8D6-572A86592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8077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6EB4-BE4D-4676-AABB-B0DE2389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24720" y="198108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824720" y="413064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24E0-E1F4-4108-AA30-0DBF98F9D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416400" y="198108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147720" y="198108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416400" y="413064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147720" y="413064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C355-700E-4EE1-93F2-A8984C76C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2AE4-3007-43A8-AA19-1478995F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C08A-DC3D-4343-830D-B5675519B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4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1080"/>
            <a:ext cx="394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B841-3F05-4DFD-BCC4-B3060E5A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8018-6CF5-43D6-A735-B4C5589C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5643-A9EB-49ED-9F32-B3A7FD845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4720" y="1981080"/>
            <a:ext cx="394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6B72-24F0-4C08-A99C-6D9302BB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4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24720" y="198108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24720" y="413064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01C6-BB42-42B2-BCEA-AF3CC2AF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24720" y="198108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8077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5FA2-E02B-43D3-9E49-8551D04E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21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3B6A1-0195-4293-A39A-5837BED98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36880"/>
            <a:ext cx="647640" cy="53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790800"/>
            <a:ext cx="647640" cy="5400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4645080"/>
            <a:ext cx="647640" cy="53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5499000"/>
            <a:ext cx="647640" cy="5400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318360"/>
            <a:ext cx="647640" cy="53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952560" y="6318360"/>
            <a:ext cx="647640" cy="53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905120" y="6318360"/>
            <a:ext cx="647640" cy="53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2857680" y="6318360"/>
            <a:ext cx="647640" cy="53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3809880" y="6318360"/>
            <a:ext cx="648000" cy="53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4762440" y="6318360"/>
            <a:ext cx="647640" cy="53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0" y="2082960"/>
            <a:ext cx="647640" cy="53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228680"/>
            <a:ext cx="647640" cy="53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0" y="374760"/>
            <a:ext cx="647640" cy="53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5715000" y="6318360"/>
            <a:ext cx="647640" cy="53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6667560" y="6318360"/>
            <a:ext cx="647640" cy="53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"/>
          <p:cNvSpPr/>
          <p:nvPr/>
        </p:nvSpPr>
        <p:spPr>
          <a:xfrm>
            <a:off x="7620120" y="6318360"/>
            <a:ext cx="647640" cy="53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76240" y="4572000"/>
            <a:ext cx="7391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zenzációs karácsonyi vásár az XXX játékboltban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u-H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ársasjátékok 30% engedménny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lvó babák 25% engedménny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űanyag építőjátékok nagy választék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z országban egyedülálló modellvasút választé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0" y="609480"/>
            <a:ext cx="4572000" cy="1067040"/>
          </a:xfrm>
          <a:custGeom>
            <a:avLst/>
            <a:gdLst>
              <a:gd name="textAreaLeft" fmla="*/ 1143000 w 4572000"/>
              <a:gd name="textAreaRight" fmla="*/ 3429000 w 4572000"/>
              <a:gd name="textAreaTop" fmla="*/ 133200 h 1067040"/>
              <a:gd name="textAreaBottom" fmla="*/ 106740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ímü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XXX Játékbo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Székesfehérvár, Zsiráf köz 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Tel.: 999-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38862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Kellemes karácsonyi ünnepeket kívánunk minden kedves vásárlónknak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u-HU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1T09:35:32Z</dcterms:created>
  <dc:creator>NJSZT</dc:creator>
  <dc:description/>
  <dc:language>en-US</dc:language>
  <cp:lastModifiedBy>.</cp:lastModifiedBy>
  <dcterms:modified xsi:type="dcterms:W3CDTF">2003-05-25T13:46:08Z</dcterms:modified>
  <cp:revision>9</cp:revision>
  <dc:subject>ECDL</dc:subject>
  <dc:title>Prezentáció forrás, 34.feladat</dc:title>
</cp:coreProperties>
</file>