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702-D49D-4DF7-AEA0-10E8C935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84E-CF8C-4454-BFD6-1440EB40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720-7C78-4A6A-A2F7-518E3A01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6E6-9F50-462A-B0A0-5BA7C481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17B-0744-4509-9AB0-6A1FAEFE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F39-91B0-4A01-AA29-A25A4921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C9B-EFF9-43CC-B296-07789370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B43-0A3C-4CE2-8439-E275DF7D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5E6-E25C-405F-AA4B-87A75C81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3AB-9090-4C97-BEED-3FACB1F5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A61-E834-4930-9AB9-8308BF65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792-824E-4801-8687-633B6DF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3D44-0E22-48BD-9CA9-DDDA3EFB4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368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790800"/>
            <a:ext cx="647640" cy="5400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6450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9000"/>
            <a:ext cx="647640" cy="5400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95256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512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85768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809880" y="6318360"/>
            <a:ext cx="64800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76244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20829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2286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3747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71500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66756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762012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76240" y="457200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ff00"/>
                </a:solidFill>
                <a:latin typeface="Times New Roman"/>
              </a:rPr>
              <a:t>Szenzációs karácsonyi vásár az XXX játékboltba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Társasjátékok 30% engedménny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Alvó babák 25% engedménny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Műanyag építőjátékok nagy választé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Az országban egyedülálló modellvasút választé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0" y="609480"/>
            <a:ext cx="4572000" cy="1067040"/>
          </a:xfrm>
          <a:custGeom>
            <a:avLst/>
            <a:gdLst>
              <a:gd name="textAreaLeft" fmla="*/ 1143000 w 4572000"/>
              <a:gd name="textAreaRight" fmla="*/ 3429000 w 4572000"/>
              <a:gd name="textAreaTop" fmla="*/ 13320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Címü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XXX Játékbo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Székesfehérvár, Zsiráf köz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Tel.: 999-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886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Kellemes karácsonyi ünnepeket kívánunk minden kedves vásárlónkna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1T09:35:32Z</dcterms:created>
  <dc:creator>NJSZT</dc:creator>
  <dc:description/>
  <dc:language>en-US</dc:language>
  <cp:lastModifiedBy>.</cp:lastModifiedBy>
  <dcterms:modified xsi:type="dcterms:W3CDTF">2003-05-25T13:53:33Z</dcterms:modified>
  <cp:revision>10</cp:revision>
  <dc:subject>ECDL</dc:subject>
  <dc:title>Prezentáció forrás, 35.feladat</dc:title>
</cp:coreProperties>
</file>