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A3DD-6A88-4EE3-83D7-EA0E6A51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DD69-FB5F-425C-87EE-805FEF37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0302-B351-4297-BE38-74C9FAEC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F365-716D-47CF-B6FB-B9A47EAE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E9A2-0B94-4636-9B56-03C03586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404B-FD3D-416B-AA63-DE86BFAE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7CF0-7C6C-4FD3-82ED-F2A5976B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B1B-0B93-41FD-BB52-B77D79E2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E13-4163-465E-984D-E5B217F4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D8CF-5D71-4181-8F7D-B73836A5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0DB-3E7A-45A6-955F-E5F60613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8629-2BFA-44F0-88B2-BE671939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8400-D001-47B7-9154-F2D32B126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ve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z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mutatko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élkitűzés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őbeosz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ső té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éma felvázo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éma kifej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érdések és válasz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9:57:25Z</dcterms:created>
  <dc:creator>NJSZT</dc:creator>
  <dc:description/>
  <dc:language>en-US</dc:language>
  <cp:lastModifiedBy>.</cp:lastModifiedBy>
  <dcterms:modified xsi:type="dcterms:W3CDTF">2003-03-11T19:57:39Z</dcterms:modified>
  <cp:revision>1</cp:revision>
  <dc:subject>ECDL</dc:subject>
  <dc:title>Prezentáció forrás, 35b.feladat</dc:title>
</cp:coreProperties>
</file>