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C75-86C6-47EC-9DE5-A219D028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6400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2808000"/>
            <a:ext cx="6400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6DA-B153-4C2B-A643-FFA863ED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252-DC32-481F-BA9F-D7E33A36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129528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129528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280800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280800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280800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02C-1BC7-4F27-B1F3-4351CF33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662-55BF-4D13-922F-ED266526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C9E-6528-4B2A-B375-9A1E4489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2ED-7755-4224-98DB-BFA73614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42B-D29A-4B4D-A86A-D6910BDF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F8D-B537-4DDD-9C85-68825E4D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3B7-FA6A-4385-B0B4-6EF8A470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A25-FBE5-4E39-B532-3CCB081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2808000"/>
            <a:ext cx="6400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AD0-C26A-4B05-A590-8945E57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32000" y="1270080"/>
            <a:ext cx="6478560" cy="4317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157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80D9-682E-4E1D-86E3-752D8FEDCBC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lal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ládi háza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rháza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rodaépület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aral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di tervezését és kivitelezés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00381_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4603680" cy="257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51044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.: (11) 123-456; (11) 654-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9:28:36Z</dcterms:created>
  <dc:creator>NJSZT</dc:creator>
  <dc:description/>
  <dc:language>en-US</dc:language>
  <cp:lastModifiedBy>.</cp:lastModifiedBy>
  <dcterms:modified xsi:type="dcterms:W3CDTF">2003-05-26T20:43:37Z</dcterms:modified>
  <cp:revision>6</cp:revision>
  <dc:subject>ECDL</dc:subject>
  <dc:title>Prezentáció forrás, 36.feladat</dc:title>
</cp:coreProperties>
</file>