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A46-F431-417D-86B5-B63534A4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720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2600" y="2799720"/>
            <a:ext cx="720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174-FE90-42CE-9EA7-5490598D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989-F17E-4DF4-97D1-59EE98E9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7280" y="129528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11960" y="129528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2600" y="279972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7280" y="279972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11960" y="279972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8D7-4CBC-44BC-9E7B-F33FB574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171-45B0-423F-A0F3-F1AB8763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1B6-7CDF-440A-BC51-97557645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372-AED3-4F4C-9697-A38B1A5C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610-875E-4751-A2A9-03366F06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8762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068-9C10-4AE1-AB9F-604BEEB6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FEC-50FC-4938-9249-2F23EB0A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971-2197-4C68-8F19-F3665470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2600" y="2799720"/>
            <a:ext cx="720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104-FCAE-4C73-B8B4-35433DF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98680" y="1270080"/>
            <a:ext cx="7288200" cy="4317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157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7450-0425-4E9E-BA43-7C218D8A8E1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elorie.com/house/old/house-4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battelle.org/careers/gfx/house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ti.org/house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llal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saládi ház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rház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rodaépület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yaral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edi tervezését és kivitelezés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00381_" descr=""/>
          <p:cNvPicPr/>
          <p:nvPr/>
        </p:nvPicPr>
        <p:blipFill>
          <a:blip r:embed="rId1"/>
          <a:stretch/>
        </p:blipFill>
        <p:spPr>
          <a:xfrm>
            <a:off x="1542960" y="1295280"/>
            <a:ext cx="5180040" cy="257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28640" y="5104440"/>
            <a:ext cx="71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.: (11) 123-456; (11) 654-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ouse-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124080"/>
            <a:ext cx="3040200" cy="200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838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ferenciá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ouse" descr="">
            <a:hlinkClick r:id="rId3"/>
          </p:cNvPr>
          <p:cNvPicPr/>
          <p:nvPr/>
        </p:nvPicPr>
        <p:blipFill>
          <a:blip r:embed="rId4"/>
          <a:srcRect l="3952" t="7014" r="6582" b="12212"/>
          <a:stretch/>
        </p:blipFill>
        <p:spPr>
          <a:xfrm>
            <a:off x="2552760" y="167652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house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3680" y="205740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9:28:36Z</dcterms:created>
  <dc:creator>NJSZT</dc:creator>
  <dc:description/>
  <dc:language>en-US</dc:language>
  <cp:lastModifiedBy>.</cp:lastModifiedBy>
  <dcterms:modified xsi:type="dcterms:W3CDTF">2003-05-25T14:10:09Z</dcterms:modified>
  <cp:revision>12</cp:revision>
  <dc:subject>ECDL</dc:subject>
  <dc:title>Prezentáció forrás, 37.feladat</dc:title>
</cp:coreProperties>
</file>