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3B0-A2B4-4C19-BC18-25CBC7D0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8E8-3DF8-47F3-B557-4C825B3B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DF7-9715-490F-A802-224E8F7B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F9C-C082-44B8-99EF-7777437E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1E9-9DB1-4E20-B166-27D1A5B7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BF1-32C6-47DD-B56F-A498B16A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4FC-AADA-46A8-8019-77305927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E0D-1B7B-4908-9CA1-D482F036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30D-0B7C-4CF4-A9BF-3A423ED6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1A0-226D-40C0-A36E-D81CD8D6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ED4-2BA2-4421-A76E-AC19B994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EB1-CF0A-48D9-A832-74CE43E8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733920" y="30492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1008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660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5740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733920" y="186696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41008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8660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8088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05740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733920" y="342900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41008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08660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8088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05740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733920" y="499104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41008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08660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5328-98E4-44BD-831C-7120898FF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68600" y="3017880"/>
            <a:ext cx="58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zenzációs csempe és padlóburkoló választék az XXX CSEMPEBOLTBA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368280"/>
            <a:ext cx="83822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ZLETÜNKBE KIVÁLÓ MINŐSÉGŰ OLASZ CSEMPÉK ÉRKEZTEK. tÖBB MINT 80 KÜLÖNBÖZŐ CSEMPE ÉS PADLÓBURKOLÓ KÖZÜL VÁLASZTHAT, A LEGKEDVEZŐBB ÁRTÓL A LEGIGÉNYESEBB MINŐSÉG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68600" y="1141560"/>
            <a:ext cx="58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ímünk: Szeged, Fogas út 9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999-99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71600" y="1371600"/>
            <a:ext cx="2879640" cy="21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lasz márványmintás csem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000 Ft/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2971800"/>
            <a:ext cx="2879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ránitmintás fagyálló tapos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500 Ft/m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9:44:14Z</dcterms:created>
  <dc:creator>NJSZT</dc:creator>
  <dc:description/>
  <dc:language>en-US</dc:language>
  <cp:lastModifiedBy>.</cp:lastModifiedBy>
  <dcterms:modified xsi:type="dcterms:W3CDTF">2003-05-03T16:13:02Z</dcterms:modified>
  <cp:revision>11</cp:revision>
  <dc:subject>ECDL</dc:subject>
  <dc:title>Prezentáció forrás, 38.feladat</dc:title>
</cp:coreProperties>
</file>