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B8AF-3880-4A11-BE1A-5FC3F68E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EC8B-743F-4650-92B5-B8F13173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06A-840F-4A3B-9560-D2D06D9F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E209-E97F-4A39-BCE4-A9515A63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F240-0059-46BB-A47A-90A69FB0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084B-238C-4DBD-82A2-2F817D92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693-C360-4EFF-9302-3E36DA6B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F96E-E7F5-4B08-9F35-F1583DD0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94C-32EF-4F82-B1B6-58EA4C77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30B4-B5D3-4F9C-8C18-86E3D2D6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B2FF-4948-4D96-99A3-A0BB7599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B0F8-154D-4EF2-AC92-C0D652AF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733920" y="30492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41008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660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05740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733920" y="186696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41008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8660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8088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05740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733920" y="342900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41008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08660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8088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05740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733920" y="499104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541008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08660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F69C-63E5-491F-AD35-9B06A81C3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68600" y="3017880"/>
            <a:ext cx="58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zenzációs csempe és padlóburkoló választék az XXX CSEMPEBOLTBA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368280"/>
            <a:ext cx="83822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ZLETÜNKBE KIVÁLÓ MINŐSÉGŰ OLASZ CSEMPÉK ÉRKEZTEK. tÖBB MINT 80 KÜLÖNBÖZŐ CSEMPE ÉS PADLÓBURKOLÓ KÖZÜL VÁLASZTHAT, A LEGKEDVEZŐBB ÁRTÓL A LEGIGÉNYESEBB MINŐSÉGI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68600" y="1141560"/>
            <a:ext cx="580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Címünk: Szeged, Fogas út 99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999-99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71600" y="1371600"/>
            <a:ext cx="2879640" cy="21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lasz márványmintás csem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000 Ft/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2971800"/>
            <a:ext cx="2879640" cy="28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ránitmintás fagyálló tapos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500 Ft/m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9:44:14Z</dcterms:created>
  <dc:creator>NJSZT</dc:creator>
  <dc:description/>
  <dc:language>en-US</dc:language>
  <cp:lastModifiedBy>.</cp:lastModifiedBy>
  <dcterms:modified xsi:type="dcterms:W3CDTF">2003-05-03T16:13:02Z</dcterms:modified>
  <cp:revision>11</cp:revision>
  <dc:subject>ECDL</dc:subject>
  <dc:title>Prezentáció forrás, 39.feladat</dc:title>
</cp:coreProperties>
</file>