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073-4999-45FB-9D64-3854DF60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118-6B82-4ACF-87A2-D0CEDB0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FE5-FF61-49DC-884C-AA6D1C64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B3C-3510-406F-BBA8-289D6AC0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92D-28BB-49F2-A5F3-A5991F1F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6F2-D673-4A6B-A43D-4126AD55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120-5F1C-40DD-B545-451435CF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AB3-9662-4CFD-962E-803CE86E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EE5-7736-4CF1-A128-2BA9DDF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A14-3025-447F-B04E-9DC220A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481-058C-4C58-AFA5-6ED31F2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BFD-BA9C-4667-9202-F525057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4DC5-B565-4D36-B5A4-AFFA3F325C32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25A-64E9-4FBD-A817-3C29D71754C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38200"/>
            <a:ext cx="4114800" cy="164700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bant 601 elad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ó! Ár: 90 000 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777-77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7840" y="3598920"/>
            <a:ext cx="4114800" cy="216468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tsubishi Galant, 1800 cm</a:t>
            </a:r>
            <a:r>
              <a:rPr b="0" lang="hu-HU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, kiváló állapotban elad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999-99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ri tevékenységre alkalmas családi ház eladó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888-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426708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latonparti nyaraló eladó. Ár: 45 millió 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.: 666-66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143820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cserélném budapesti 2 szobás lakásomat székesfehérvári 2 szobásra. Tel.: 111-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+fél szobás lakás eladó. Érd.: XXX Ingatlaniro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143820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ndes környezetben 3 szobás családi ház el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333-33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7840" y="3598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zobás családi házamat elcserélném 2 földszinti lakás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XXX Ingatlanir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fél szobás, 43 nm-es üres lakás hosszú távra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d.: 555-5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426708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ép, 2 szobás lakás igényeseknek, hosszú távra, bútorozottan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444-4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nyhalak eladó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17840" y="359892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éves ékszerteknősöm elcserélném fiatalabb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971800"/>
          <a:ext cx="7772400" cy="2438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ossá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lalkozó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é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498760" y="159228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7040" y="159696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rdetési ár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44792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426708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0:13:26Z</dcterms:created>
  <dc:creator>NJSZT</dc:creator>
  <dc:description/>
  <dc:language>en-US</dc:language>
  <cp:lastModifiedBy>.</cp:lastModifiedBy>
  <dcterms:modified xsi:type="dcterms:W3CDTF">2003-05-24T21:13:43Z</dcterms:modified>
  <cp:revision>8</cp:revision>
  <dc:subject>ECDL</dc:subject>
  <dc:title>Prezentáció forrás, 4.feladat</dc:title>
</cp:coreProperties>
</file>