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A06-35E2-4954-BC8B-6B3B715E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A76-7AD5-4E5F-AF86-CA5CA4A4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3FD-6701-414E-AF9A-A0788ABA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BBA-A29C-4EAC-A7FD-38856558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31E-9114-4806-B2BD-41ED4D9B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C08-177A-4644-AF07-D40F34E5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5FC-9C0C-4DEC-891C-E6E9C830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B47-57AC-439D-B2AD-D7782D95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1FD-623C-4D13-87E7-40B9F432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F1E-64BD-48B0-9A79-2478CBD1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D39-32A7-4542-99EA-ABAF8DC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E38-7152-4F33-9AA7-09C75872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8AF-9233-4C18-B3BB-45BCC6D77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öld" descr=""/>
          <p:cNvPicPr/>
          <p:nvPr/>
        </p:nvPicPr>
        <p:blipFill>
          <a:blip r:embed="rId1"/>
          <a:stretch/>
        </p:blipFill>
        <p:spPr>
          <a:xfrm>
            <a:off x="3336840" y="2193840"/>
            <a:ext cx="24685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laton" descr=""/>
          <p:cNvPicPr/>
          <p:nvPr/>
        </p:nvPicPr>
        <p:blipFill>
          <a:blip r:embed="rId1"/>
          <a:stretch/>
        </p:blipFill>
        <p:spPr>
          <a:xfrm>
            <a:off x="2965320" y="2324160"/>
            <a:ext cx="3213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19:51:07Z</dcterms:created>
  <dc:creator>NJSZT</dc:creator>
  <dc:description/>
  <dc:language>en-US</dc:language>
  <cp:lastModifiedBy>.</cp:lastModifiedBy>
  <dcterms:modified xsi:type="dcterms:W3CDTF">2003-05-26T21:25:25Z</dcterms:modified>
  <cp:revision>2</cp:revision>
  <dc:subject>ECDL</dc:subject>
  <dc:title>Prezentáció forrás, 4b.feladat</dc:title>
</cp:coreProperties>
</file>