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2B32-9465-4D03-974C-C68B8C50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1B8-30F8-4660-9835-86F8A2DF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4E2-1C48-4608-ADD5-29778AFA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22B-6016-409E-9A42-043324B3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5A4-4811-4F09-BB4C-8DEC623F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250-2D92-4290-9FC6-E52094B9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474-A9D9-4784-9B3B-6BE6C988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C92-B34D-4E53-B714-C925099A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0E0-4CDA-49D3-8E0B-E814CB8C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05B-E819-49AE-897E-3A97084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2E3-8DE4-4ACA-B264-734F6F3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AB7-8320-4873-9512-FC13FEA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861-0130-4D71-B0EF-F97D651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BD89-73D7-4B9F-B374-BB7C9C81160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0"/>
            <a:ext cx="1295280" cy="609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S00554_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2070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1523880"/>
            <a:ext cx="5715000" cy="3810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265284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>NJSZT</dc:creator>
  <dc:description/>
  <dc:language>en-US</dc:language>
  <cp:lastModifiedBy>.</cp:lastModifiedBy>
  <dcterms:modified xsi:type="dcterms:W3CDTF">2003-05-25T14:32:34Z</dcterms:modified>
  <cp:revision>5</cp:revision>
  <dc:subject>ECDL</dc:subject>
  <dc:title>Prezentáció forrás, 40.feladat</dc:title>
</cp:coreProperties>
</file>