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E36B-2650-4B6F-ACC5-76A53DEE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830-F21F-4B71-A649-01C1B652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579-90C5-4AB0-AB9D-86A82228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A8F-C8CA-4ACE-AA9B-F5384849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74A-E035-4A41-8D25-74A0020F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118-21EF-4FD8-9018-BC34971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D81-2EE7-46E5-924B-B1C7BF8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5FE-C49B-4D5A-B7EE-768F610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5C2-E74A-491C-9D0D-18400D6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0CA-DEE3-466E-8064-8F21270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A55-0FC0-4638-8C4B-8A1551C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83D-5802-46A0-8D21-DF9E026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738-DCA9-4872-8B36-9A04B0DA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93B-0948-4CE6-BECD-63C59B68F31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0"/>
            <a:ext cx="1295280" cy="609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S00554_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.</cp:lastModifiedBy>
  <dcterms:modified xsi:type="dcterms:W3CDTF">2003-05-25T14:38:44Z</dcterms:modified>
  <cp:revision>5</cp:revision>
  <dc:subject>ECDL</dc:subject>
  <dc:title>Prezentáció forrás, 41.feladat</dc:title>
</cp:coreProperties>
</file>