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0BC-7237-43D1-9D76-21D118DD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16E-2D97-48BB-82DC-5E82DA43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048-DFA5-42EE-83A3-3DA92820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DCC-F19A-4D1D-A597-5374EA47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44C-DAB7-434B-9AF3-F34E229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D97-A366-4FBB-8C67-D9B4E25D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2B4-561A-45BA-8F5F-87ABE697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851-9E6B-4FC7-979D-D418A02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5C1-6E44-4265-B609-9A336E3F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7E5-45FA-4D88-A7C9-B344648A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4A3-8E30-41C3-AA2A-9011C10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7B0-8039-4DF7-9C20-4747C3AF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C8D0-F1D3-430E-8C59-9F39F26BD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1160" y="1066680"/>
            <a:ext cx="46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ÚRAAJÁNLATOK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Velencei-tó és körny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200" y="4267080"/>
            <a:ext cx="236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encei-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encei-h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á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árd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000" y="4267080"/>
            <a:ext cx="20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ákoz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uko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a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ékesfehér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elenceito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233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2840" y="969840"/>
            <a:ext cx="527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4560" y="4267080"/>
            <a:ext cx="17413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zilvásvá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llafü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1200" y="4267080"/>
            <a:ext cx="2064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zarvask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ko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kolctapol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4038480"/>
          <a:ext cx="6095880" cy="2133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55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00200" y="4038480"/>
          <a:ext cx="6095880" cy="2133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NJSZT</dc:creator>
  <dc:description/>
  <dc:language>en-US</dc:language>
  <cp:lastModifiedBy>.</cp:lastModifiedBy>
  <dcterms:modified xsi:type="dcterms:W3CDTF">2003-05-25T14:54:50Z</dcterms:modified>
  <cp:revision>13</cp:revision>
  <dc:subject>ECDL</dc:subject>
  <dc:title>Prezentáció forrás, 44.feladat</dc:title>
</cp:coreProperties>
</file>