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BA9-FF1A-49C6-AED5-CC66040C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89D-6C6F-4E12-A8E5-6CF567C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E8E-A26C-42CC-A0C0-61F0C7FC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896-25A0-4CC3-87DA-EB23D560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575-D9D6-4C8C-8D4B-673E49F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C80-C85C-4292-869A-167B32C2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E77-C5D0-410E-88FB-0965AF5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CAD-C705-4DB7-94E3-B91BD06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540-13D1-455F-BD95-511C2BC4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5D4-C3A3-411C-9763-D9F1FBF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670-937C-48C9-B19B-3C5C296E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6E6-97F4-423E-88C0-053F633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5C8-8F19-45A6-96E1-73337D64A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1160" y="1066680"/>
            <a:ext cx="46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ÚRAAJÁNLATOK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Velencei-tó és körny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200" y="4267080"/>
            <a:ext cx="236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encei-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encei-h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á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árd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000" y="4267080"/>
            <a:ext cx="20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koz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ko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ékesfehér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elenceito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233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76080" y="969840"/>
            <a:ext cx="599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4560" y="4267080"/>
            <a:ext cx="17413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ilvásvá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llafü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1200" y="4267080"/>
            <a:ext cx="2064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arvask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ko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kolctapol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4038480"/>
          <a:ext cx="6095880" cy="2133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5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00200" y="4038480"/>
          <a:ext cx="6095880" cy="2133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NJSZT</dc:creator>
  <dc:description/>
  <dc:language>en-US</dc:language>
  <cp:lastModifiedBy>.</cp:lastModifiedBy>
  <dcterms:modified xsi:type="dcterms:W3CDTF">2003-05-25T15:00:17Z</dcterms:modified>
  <cp:revision>12</cp:revision>
  <dc:subject>ECDL</dc:subject>
  <dc:title>Prezentáció forrás, 45.feladat</dc:title>
</cp:coreProperties>
</file>