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46B-1D5B-4A56-9027-40238299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EF5-675A-4C32-8B72-665A4E40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573-0AD7-4D01-B487-2425A915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56E-2E08-4ABC-86A8-75D10003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247-0F98-4BB9-A23B-7252AF0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9E0-78A9-404E-A2AE-7D7553E7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79E-CA3A-46CE-9DFB-F26437E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614-3F99-48FF-9241-13CBCE9B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5E2-0FD3-487A-8570-3E2D5CA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7F1-8241-4799-87A1-5CB9A5D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DF9-97BD-4F42-889E-34C56863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291-2B24-450A-AC0A-365DF20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6035-8FB2-4100-A940-55E77C6B7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8080" y="969840"/>
            <a:ext cx="621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00"/>
                </a:solidFill>
                <a:latin typeface="Times New Roman"/>
              </a:rPr>
              <a:t>Balaton és környé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3680" y="4267080"/>
            <a:ext cx="14014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h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zth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3440" y="4267080"/>
            <a:ext cx="1518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c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óf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3-28T20:44:37Z</dcterms:modified>
  <cp:revision>13</cp:revision>
  <dc:subject>ECDL</dc:subject>
  <dc:title>Prezentáció forrás, 45b.feladat</dc:title>
</cp:coreProperties>
</file>