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126-EE33-4D1B-A46A-7E3CBBEE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E8E-71DC-42F6-95C1-2C800BA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98A-DC7C-4753-AE01-2041E058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73C-F413-410F-9E69-025EC1A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253-B955-4ADB-932A-C30C7D8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700-6FDC-4A62-BA97-701240B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862-B3FE-4CD6-B84E-10712AF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7A4-0C38-40FF-9090-F27BD7C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655-CB68-41E2-9F8E-106D7DB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D0F-2EE0-4611-AC22-7811DE2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A40-F826-40FF-B9C2-19680ED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2B2-F532-4405-B0DD-3A8A5731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4D2-BBAA-4528-BBF8-4BF5ECD40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25T15:10:26Z</dcterms:modified>
  <cp:revision>6</cp:revision>
  <dc:subject>ECDL</dc:subject>
  <dc:title>Prezentáció forrás, 46.feladat</dc:title>
</cp:coreProperties>
</file>