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3D3-6FCB-4170-AC16-8D2ECD94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8BE-9E35-472C-B39E-522B0528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A15-10AB-4C8C-83BF-78597CC4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DAF-6F4D-4B52-9462-A4CCBA7A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FAA-75D5-441A-999B-D1099870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A7B-226B-4355-B230-58423390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54B-9E80-4065-A7A5-B9379EBD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562-6F4E-4D80-9DDA-E82F995E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D3F-15EE-459A-A530-162C33EE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1C0-EFA2-4E2D-A2C8-20CE2A29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37B-AB01-4AA9-A8D4-6D6B75FE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43F-2216-499F-AA82-647AFE48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79D5-1548-4CFD-B72B-D407F1CE9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97240" y="1401840"/>
            <a:ext cx="249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621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7200" y="853920"/>
            <a:ext cx="51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Szolgáltatásain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8520" y="2602080"/>
            <a:ext cx="54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ektetési tanács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lalatirányító rendszerek telep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05:30Z</dcterms:created>
  <dc:creator>NJSZT</dc:creator>
  <dc:description/>
  <dc:language>en-US</dc:language>
  <cp:lastModifiedBy>.</cp:lastModifiedBy>
  <dcterms:modified xsi:type="dcterms:W3CDTF">2003-05-25T15:37:49Z</dcterms:modified>
  <cp:revision>6</cp:revision>
  <dc:subject>ECDL</dc:subject>
  <dc:title>Prezentáció forrás, 47.feladat</dc:title>
</cp:coreProperties>
</file>