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717-5A48-4638-9B31-AD6AFC63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F505-A876-4D83-A4A1-F83368FE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EB6-C710-433A-ACB3-0A1B6063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B1F5-5459-4930-B169-F7FA7006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A83-6884-405F-8EB1-A69AD6CD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6C9-634B-47B4-8C3C-BD0DE438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642-41D5-4FAA-86BC-8EC809B7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610-F9A8-42E4-B7CE-C619E7DB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4DB-ABB1-4361-A7A7-5C768815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C3F-09A8-477B-8156-7BFB01B9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1D2C-5AB6-4C0B-B833-E4852FAF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76D2-7DFC-4577-969D-9B5D60CB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A578-3AC6-4392-9CF8-C8601B2A0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05920" cy="6096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84360" y="1979640"/>
          <a:ext cx="776916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79640"/>
                    <a:ext cx="776916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6T20:09:09Z</dcterms:created>
  <dc:creator>NJSZT</dc:creator>
  <dc:description/>
  <dc:language>en-US</dc:language>
  <cp:lastModifiedBy>.</cp:lastModifiedBy>
  <dcterms:modified xsi:type="dcterms:W3CDTF">2003-05-26T20:13:51Z</dcterms:modified>
  <cp:revision>4</cp:revision>
  <dc:subject>ECDL</dc:subject>
  <dc:title>Prezentáció forrás, 47b.feladat</dc:title>
</cp:coreProperties>
</file>