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4A3-225E-403E-BF38-61AFF8D7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C52-22E1-4B75-B7CA-2B2AFEB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B6D-E0A1-484A-9C58-59FC3E0D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4AB-E383-48F4-AFC0-4A394F12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652-32DC-4631-8DFB-9FFD094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C77-2CE6-48BC-AE87-538DD6E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F44-2CE3-487D-A603-2A040CEC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DA3-5EE3-4DBA-AE30-5E8C3D6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358-4F23-4D6D-B699-CA6B9C3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F8D-80D1-4EB5-ACD1-88E4191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936-E94E-4D9F-BF3F-2229003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4B9-C717-4D2B-8AAD-E31389B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8752-FD08-43B7-ABA4-B3EAC5AA8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03T17:35:29Z</dcterms:modified>
  <cp:revision>4</cp:revision>
  <dc:subject>ECDL</dc:subject>
  <dc:title>Prezentáció forrás, 48.feladat</dc:title>
</cp:coreProperties>
</file>