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48E4-DA21-4FD8-B00E-0B482CB4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1B-FE7B-4097-9D66-96EBA39E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F52-3600-4057-869A-D6F2634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00D-38D8-486E-A759-7BBC45C9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20C-3A70-4576-91E0-C3CFE43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33E-15DD-444D-A552-711842D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4E6-8336-4BA5-827F-49AD174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88E-F02D-4A06-8943-C227934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037-8820-44C3-BD23-844E9A23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7AE-9973-40BA-8901-BB5DD5E5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916-2299-44BB-998E-83090BE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3CB-61E1-4A14-89A3-EC806D3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453-7F81-414C-BF26-9951859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512-0451-47A8-8F80-803F57E66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NJSZT</dc:creator>
  <dc:description/>
  <dc:language>en-US</dc:language>
  <cp:lastModifiedBy>.</cp:lastModifiedBy>
  <dcterms:modified xsi:type="dcterms:W3CDTF">2003-05-04T16:47:30Z</dcterms:modified>
  <cp:revision>5</cp:revision>
  <dc:subject>ECDL</dc:subject>
  <dc:title>Prezentáció forrás, 48b.feladat</dc:title>
</cp:coreProperties>
</file>