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FEE-5DF1-4FCB-8D1B-BF747725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97E-9AFB-47F5-97DC-CA8AD1A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C89-0FD2-4DD3-A6AA-6024E3D4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F2C-7AD9-4FAF-A4D4-7DCA2D60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DDE-8CEA-4083-8F19-3D0F8899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FD4-5548-4AF8-9DF8-8660565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9BA-2D80-4858-AFB5-A7F94A03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CA0-D0B7-48CF-B21A-52412F7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E64-15C9-4211-A951-A1E4ADFF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4F9-E7C9-4F64-89C5-D3EE889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BD6-1F74-4434-81B9-8DA8259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CF0-5439-4B7F-8615-BFC8F46B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F1B2-D49B-4287-BDDA-57397BE3034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NJSZT</dc:creator>
  <dc:description/>
  <dc:language>en-US</dc:language>
  <cp:lastModifiedBy>.</cp:lastModifiedBy>
  <dcterms:modified xsi:type="dcterms:W3CDTF">2003-05-25T15:48:40Z</dcterms:modified>
  <cp:revision>9</cp:revision>
  <dc:subject>ECDL</dc:subject>
  <dc:title>Prezentáció forrás, 49.feladat</dc:title>
</cp:coreProperties>
</file>